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start.wav" ContentType="audio/x-wav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7.png" ContentType="image/png"/>
  <Override PartName="/ppt/media/image17.gif" ContentType="image/gif"/>
  <Override PartName="/ppt/media/image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9.gif" ContentType="image/gif"/>
  <Override PartName="/ppt/media/image1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4ABBA-7D0B-4149-8781-81D856EF3B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D2A85-9E01-4198-B249-4ADF1E3A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B3A3D0-F17D-406E-809C-8602873F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8B86CF-E7FC-496B-A62E-8664BE510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CC5048-9894-4B2E-9B05-68D8B1EFB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1B0B19-EF49-4531-AC30-3B0CE373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187D8C-6B3F-43CC-A131-6646ACDA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5443AC-2D2E-46CF-90FA-70309711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051454-2754-4709-B9DA-9BF46A5B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DEE392-2E44-4C3F-B08B-C2A0DD3A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16E249-2049-4FC9-871D-D1B047BF53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0B49C-D551-4D6E-AD30-DBA811376D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4FA71-6AAF-4A7A-9862-D4297367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59E2B-6180-404F-9110-C1E40437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AB05A-D889-429B-88AE-D3A376BF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DCDB2-593B-42A2-9B40-DCE392E6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A623D-A2FB-41BD-AB1C-8E2095408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122EA-C24A-4F3A-B117-8ECA9F5B8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C0B8E-747B-4835-B051-2AB0A248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56B8C-7325-4689-8F14-2668B192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AAA01-D484-4598-B759-31C10F6B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DB16A-5384-49A9-ADEF-D242D538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55431-1593-4EAB-A1A2-8C93C4E1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B65CD-0FF5-4236-9DC8-BCE7351929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7F4B3-AA9A-402C-8AB4-93CC0E84D1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643336-F5C3-47B9-B28C-03C103A481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F63E29-29D9-49F6-BDD6-DECD1BA4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D0F163-F40F-47B6-9124-5111CDE2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EC4074-CDD6-4BF2-B337-C2F7600B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21DB38-8B7E-492B-A7CC-740BF9C78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65EEDD-42C5-4FCC-A3D6-64DCBB8C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B4009A-9244-4D7B-AF7F-F471968A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F82A72-4EB2-440E-90FC-55C4BA32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502ED7-BAE1-4094-88B3-BBB86406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DF1EE-3573-4D13-89A8-AC0327D332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709B5A-3580-4A9F-B528-236DE5E5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1FB239-F7B8-4AF8-9364-DBA6220E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C192AB-30AF-4A26-89A6-9B20E0AAFD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017FAB-531A-4770-B1D7-B52FC14880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F19E05-F8E0-4873-9D42-14C91176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7FE26E-1937-46FF-8B42-23FCD2A4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F6301C-2C05-4973-B3BD-9D835F42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2DDACC-248C-4C5D-944F-90B1B0C00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8092D6-B2C5-49E0-A67E-EC560CA4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0E82E3-3958-4DC4-963F-831130E0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E2A9A-12D2-4AE5-8A47-C9080B7F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937310-2D85-4729-AED6-DACA3B35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C16FD3-4A2F-4552-9A74-9337CFAD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47B1E1-C126-499A-8D0C-DE4BAA42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5F36BF-A689-4003-AD64-D321EB79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1B1439-D77D-4622-879F-90DEED15F2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EB6B9-BCA6-4CFA-920B-46401F538C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7B0409-6AD9-4EC9-B1C7-AFA08BBC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AA174-3F11-4B65-906A-F5117091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1E0F61-463A-4347-86BC-A7E8832F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7114E-9793-4920-B0A0-D1435DD18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50FD0-DC99-458F-A2BC-13890A37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B39BC-1B61-4B92-B29A-B4832D10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B68E3-13B4-4F71-BBF5-77FF559C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3F3BA-AFBC-4D50-8F17-A4DE3E56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73669-FEF0-440D-895C-520F6D1E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DB59C-7859-4911-8C53-B1211E72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8F22A-6862-4A33-953F-AECA57DF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799247-7D3A-45B5-A61C-26AF736AD4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652A73-B7DD-4458-8731-C9877AE433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670D12-C85E-4EEA-9A8B-98EFADEC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667031-C5F2-46B8-801A-DE87DB4E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00479-EB41-4CBD-9950-C6676F58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6EE8F1-E62D-45A8-9CBB-ADBA63DC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EAAA63-3D38-4646-BD15-EE7935A9C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6345AF-3220-4508-9175-12363B4F9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EB890B-B5E7-42A2-8142-A6B24EF0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B23709-A475-4AA5-AB78-CB12D78E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FCDC66-7413-4FAB-B370-4C06186B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46032F-49AF-4FC1-B884-25F46C90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037A74-2F70-4074-9F9A-74C20788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CE34F5-B0EC-450E-9A16-46FE90C6D6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E4A6CFF-BA17-42F2-9346-5BCB4E10BB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2A66E-5EC2-4B39-B884-471813747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056269F-1C74-4394-8183-01519EB0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F553B17-77F0-4FCD-86F6-901392CB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99EBBCB-7BCF-425D-8BA6-49DF30AD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72AA1FA-7DAA-4010-9A31-1F56C0B42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C6E9B20-7307-49BB-9F76-D4AC5A0EE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40969CD-B415-4DE6-98E8-375C80B7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EF3A1C6-2824-4284-9616-B4B0E182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E220A61-804A-42B4-A7AE-77342650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7BE679E-087B-48B3-87D4-F4CEEB50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6BD0E18-E31F-4A76-A620-B4974E20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9E0A41-FEDE-44A1-9AE7-1B27BB6B2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E3551AA-6BE4-4120-AD87-B83F846034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FE73D-D1F3-4185-8AF0-6734B87502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C9CE6-C4FC-4257-ACD6-A7DEE86C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ACC53-BE14-45B4-A4BB-4283F0AA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5E153-65F1-4BED-879F-BDDF7D01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E8CD9-B28E-4BB9-B0CF-11A6478D6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B2DD8-D460-4B60-AEFC-E233C9499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92548-BD73-4FC2-AD89-7169BB86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DE28B-37CC-46DA-AD99-2EC08F4B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CCA41-6D9C-4E7D-A096-1B1CDAF5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6912BC-B2DD-48E1-AE65-0630E0F4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6686D-8D3A-474D-8936-7C6D3CAD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20B90-F66D-4630-A826-E4ED6FC5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B028D-4F5B-49B9-AD69-2D00253C93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2384879-A1CB-40F5-95CD-0D2F4CF2E1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9D24A8A-CFE7-4025-B5F5-0A1391AD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30FC1B1-884A-47B0-9F50-95966BC7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36EA982-4132-4612-81B1-C2FAD22A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D3E2831-3601-4738-AB2D-439B68658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3F040A2-D63C-4001-8050-A6DDDA26A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51FC80-BD4E-4071-8972-2FA9707C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B56B1-6756-4853-898C-220324AE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80D2C-2A6D-4967-B088-9FB7FE96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AA140C4-17E1-478C-A283-C43A5A8A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A126B36-513C-4509-9683-16AFD90B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1158BC2-60B3-484D-90F8-FE026D16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5D9BD5-E12A-4081-AC08-220CB719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4B75312-0F93-452B-AC97-078C7026F6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07A99D7-DF41-4B57-B1BA-546E386F5F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7119ED0-1D94-4A8F-B5B1-945B3B97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E7AD7ED-2F93-4AE7-8505-3A812F64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2AB4813-8EF6-476D-A267-1B94384F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D7FD29E-6E2D-4214-A53D-07D136E3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4EED2-A21B-409B-A13B-42261406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D1414DD-10A4-4528-9A44-C470A0544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F4CBF10-C47E-40DE-B754-8CD9B123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2E146E3-AAEE-4673-A931-C15D5DC0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28C8946-A230-473C-BA0F-A22DC980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96A7CC2-372B-42C0-A757-71F765FB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FA3A3A1-E0B1-4F52-A7EA-35E44AC4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3B28D49-9C88-4247-A83B-240FA01B06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D449A7-A957-4A31-9F03-4CFDC14EEF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1E07EB-14D2-42EF-9496-E4ACCF49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020255-07ED-41DF-815D-1CC856EC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40D74D-3A84-47A1-B0E3-584FCC54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023AC4-DC36-4583-B27C-E3058201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9D2121-BE50-44E0-BA4C-CA70FB5F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0BCC68-9513-4956-9267-2B6CB798A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9C8EE7-8C28-4361-B0B0-9ED3528C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96A23B-17EA-40F5-B68B-29075AEF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AECD61-B97D-477E-8557-E26400DB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F3B44E-D541-432D-8314-0561956D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2F452A-AA08-458C-BD84-DA834252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610591-68A7-49C7-90FF-9CA6BA8B74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D09E492-4A50-43B5-800E-F32C160DC9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2A447-96C4-43C0-9FC8-31A98E4E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F512AA8-736D-4154-9CAA-A3641A85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F1C1A5A-87F8-49FF-915F-498BA4DD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AE0FC5F-B1D3-4112-9262-F0F3BC2C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3F81B89-5EF6-4DF8-B148-DBC56F5FD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D87BC7D-23F3-4FC3-AB05-C49827D98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CB39E60-0B3F-4D7A-96FE-258A21AA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A4570DC-8A38-4372-BCE6-A0669405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79732F2-086A-4241-884A-D30B5A98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6A7793F-CC73-47E7-B7B3-A97B11E7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355904E-D05F-47D9-9796-150DAE10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31458-783C-4FC2-8E13-FE11C6CB68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8B85CDD-24F6-4CF3-B69D-DA57C0320F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FF53F7A-7F7C-4E26-8483-B538054242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B672308-8CC4-485F-A751-8D94D15D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AE707A6-F969-41FD-852F-74D0553D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8EB1CB7-ED91-4845-ADFF-58242C7A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EC85C44-F3C6-4572-BDDA-BCA8EF7C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4A21742-923A-4C32-B24A-B46A5F28D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F38D2C1-C8AE-47CE-B585-C7C67FC9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2F45996-C2C8-4557-A04F-B8A1E20C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06DCA95-8459-4EAE-BDAD-9A3F160B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AFFDFC-84CE-4488-BDCF-428347D2B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341E8E3-5246-4AA2-B69E-2F7C2796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3C87EBE-7C1A-4BB8-8AA8-6864D28B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7CF7735-50D5-47C0-83B2-74309CF5E6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9101F2-76A6-469A-97BA-9F7CC9E91F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E42E1B-0744-4BEE-94B8-C2880C86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A88277-3674-4BFB-A00B-57CC7590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E97CF0-B6BA-41C3-9C8F-2061A113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4B642A-D005-4868-BA4B-55E66DA2B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F616A8-2E61-4DA8-841D-53A986786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E62BD1-3C53-477D-990D-060CA67C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7D2179-A71B-457C-ACA7-1D432718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3CB901-669E-4621-A46B-95C5AD51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9C2D7D-F5AE-49D1-8802-70999B96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6A3F93-3CCB-4A3C-A7D4-E84E7A11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25E2A4-0A36-4CA2-9127-EC8F97F1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5DE992-2E5A-4BC6-9424-780A88F0A3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FF4CB08-6BB1-417A-A22D-C20DC37690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BB7789F-8E04-4987-AD6B-D2E6EEF5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CD1AB40-5AA6-4B96-98A1-8799FEF7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D6A0F1A-94D2-4412-97F9-8D14A972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EA41BC3-F46A-46E9-94D6-C84073C46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A7D1DB-DB4A-4E1C-B547-ED704CF1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FBBC575-E199-4080-8D38-BE31D86EB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F4A270A-23E3-4EA7-9A29-DCF23FB1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5241FD3-0C1D-4683-85F4-3982DB0D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A51577B-BE45-4D93-8000-AF9A3BD7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4B75202-9776-4417-91FA-9BC0D03B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D1065FF-FCD7-4774-AE49-8ED47393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1FABEF0-576A-42CF-BA27-A6AC09D33F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6979450-ACCD-4A70-8240-C4B55A086C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A46EC98-E29F-406B-9883-58B50C9C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E330DFA-A851-43BC-8D99-603178A6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C0B247-AC18-4A68-BA08-95497AFC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463B5C5-D40F-47E8-8471-913547EA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F28DBE5-B80A-4076-B024-0D1155B96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0BF7DF5-EB1E-4D7F-8E37-FAE650E27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4FC31E3-C7F7-4B64-83C4-6747A9D1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26FD95B-88FA-4BF0-BC86-7257BC65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F876105-14FF-49C5-A21D-888694EB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72C23F6-B79D-48AD-A1A9-7DB32764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3549A70-E920-4297-908A-A113964A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B8486AF-9E0C-4882-866D-281D67FFAD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AC966B-1873-496D-8652-21DC7790BD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28E2F2-F3BF-495B-AD6B-F20508FD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BDF95F-392C-4972-9AE9-7FBBAB63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52156F-0E14-4C7C-B7E1-08729247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9F5D1E-4CAA-4AE5-814A-EAEC777B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F6FDCD-DBF7-4863-B5CC-71BA88D6A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3CE2D4-F73E-41E7-A80B-14A04FF3F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1035F1-E0E6-4C9E-B5F5-224604DD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670388-81A2-4306-9119-3A124835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DAB9A1-3010-497C-86FC-CE66ECD3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67753A-6C28-4768-872B-13640162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FC9A79-05C9-4019-89A5-E921626F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07855-1554-4269-BFC2-C8FB5756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D8B75A-9656-4392-A016-E368ACFB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915102-BFFE-46AB-B82D-9C89486E97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F3ED1A-A25E-485D-B212-5E32A0C8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7D6DBB-5812-425F-9599-4B765BBD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902256-E077-416F-A325-E4009646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0C74D4-B245-43EF-953C-E2E9A1F8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5A0524-9732-4246-9F88-743027FD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579751-FCF2-488B-A1C2-0DC0E38F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8957F5-65DB-4EAB-9FAB-4B79E90C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337F80-5560-4C50-8B53-54396193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D933FC-213D-49F1-AEE1-CBCA6265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641493-33D7-4F45-A3CE-C558EDE3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E401E5-36AD-4AAA-875E-475C4B82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1CC3B9-B6C3-4A32-BB84-49D71EC7B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D7A7A0-E619-4493-8672-03547E511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FBB6B7-4B59-4DAA-898D-0AC97426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72F6FA-FFC6-4529-873F-624B40D5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6071DA-C755-4381-927D-649FF62D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3AA9E7-5539-4CC8-B993-64C6FC53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5B6BAB-AB81-4FA2-B54A-E59B4694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BBFF2A-7CC8-4E5A-A652-2C31CC44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30D912-A521-41AC-A418-5062A304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ABDB18-DDE5-4FB0-B085-51EBE032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09FDC0-64D1-4339-809B-8EAEDD80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2CD9EF-8681-46D5-ACA3-8FF13AEE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EF0759-07D4-465A-8138-A626C534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7A1E97-EA6C-4348-AF51-3159E88D9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5B5281-74BB-4F2A-B8EF-63A040731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DDDF73-E04B-47A0-BFE9-0067E1A1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F3B069-578D-42D8-A69D-C0E2463D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39D6D5-A298-4289-9D8F-EBDC74D2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2A8041-394F-45F8-A819-D846EE5A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E200C1-15FD-438C-B047-406D5035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1F3026-4B82-42EC-BA65-5F9D0BA5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813414-C0EE-4854-9BCC-4D30E4BF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73279D-5397-4297-8CB0-366972F1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311E98-2954-4707-BC40-DDC80456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4E7000-3B8C-480C-BD40-59F1A822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F47C64-9094-44BC-8FA9-A2A7B3ED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3A72DC-8968-4202-A137-63C90E77B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6EB917-BEC3-480B-92E4-319E0C338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E27D72-335C-4E9D-BBBE-A895782B5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B43193-D79C-4084-8657-48ABDCAD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77F1FF-DEC1-483D-9D5E-16EA267E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F63252-40E9-48DC-8A15-30D302A8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49A519-A628-4DC7-8965-0804AB74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0F4FB0-2E24-4520-983B-098823EE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6ADFC0-1536-4E02-876B-1128BBB4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2EF812-DEDC-4D05-9147-33EC784E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4601D7-A9BD-4D2A-BA4F-2CA49712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6C419F-1F6C-48C3-8886-6872B95D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C0816B-6885-4D5E-B836-6229BE2B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0E4970-CEDB-4D9B-ACB5-FB5FB2C83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F537B9-E5F3-499E-8F0E-5DBE5270E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4B2E37-C864-42CC-A042-C146A3464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03F7AA-91EA-4142-AE20-30132968D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E04A5F-A80B-490C-A303-0A256860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925D44-6C8B-41AC-9027-9BC5AAE9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3203F4-2701-4E41-B02D-724FDBE4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17001E-C458-403C-A870-4A835403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236AF0-3A90-4BCE-8FDD-69E3DC15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108DF3-D961-405A-944C-CBD15E0E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8A6837-4CBC-4801-8CA3-591A2676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D1A7D4-0006-4017-A0D6-6E6E8A14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B27C20-A585-4CBE-AB7F-90B523DC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19A441-B34A-4C1D-AAE2-1DF4F1AEC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9A108A-1B2D-4F36-AC17-3297C5BAC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E01695-677F-4425-A8C0-CC78001B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21E1AA-48C9-4C41-A52A-863F6CFF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4106D4-8B31-4E09-8123-29DFCB67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D5AD91-735B-4E64-AA7B-473F1D99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F723CE-FCB1-48FF-8529-B35CE247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80F57A-4394-4AE7-8920-D88BEEE6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146DA9-4028-4D81-8A3F-10117B9F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C09154-3968-43CA-9959-4A964B9C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2EE2F3-3C35-4D69-B781-FF7E1C5D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E9DAA5-DCC0-40A6-8D1E-6E6429C1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38A16-1529-4750-BF9C-43CBA6B3AF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1293C5-216A-4AD3-B5F9-427F73AF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0C99BA-5E06-49C1-BF73-266A27BF2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F12FDA-D0A8-4DBB-8E88-42D485735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49C71C-2AD7-42F2-A727-4669E667E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C16895-0D43-433A-BFE9-A499E623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BC20DC-4998-4A4A-A9EA-0C2B9FBB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8FD3C3-651D-41B1-82EF-2B1DAD6C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D99F47-A29F-4D1C-B742-A0463E75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ADC9C6-738B-4B7C-A480-CBFEA085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CEAADA-CAC6-407C-8BDA-F24D1932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F1EE2-1443-4A27-9F0F-A528ADD7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EBB079-2E9D-4272-B0C2-EEA413B5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9555DB-686E-4294-A569-857A367B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E161B8-4202-4F18-8C8A-C9F23B24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BD6CD3-0B69-48F1-A87C-E0EDA69A7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A4C5ED-993D-4F60-9E40-9AF932043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E07C14F-9BC2-41AF-8A50-450BFB5CC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3B5F11D-1BBF-4E77-A959-B292B00F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B614A3-8A37-4DBD-A65F-9877CB89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165F1EE-1A36-4436-8210-DE24D5AA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59EBDD0-8995-4779-B71B-6F53C7AE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FDBCA-9A06-443A-847D-53238AE1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C1D9E0-BB8D-4DCD-950A-9A595603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7E84E8-E7B0-4C7A-B937-184908D7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D0F9410-D36B-4C64-AC85-3653E43E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20DEEC9-72E9-40C0-94EE-8BBF1547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14FBBD8-3D1A-48F1-87D5-7C378873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C6F9ECB-9536-4791-BD0B-EA2602967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ADC3844-491F-4E97-9899-9C45CEF86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7A4709-3F7E-4F62-9663-2CE98933A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951B76-9862-41AD-A8F5-CF0C2AF3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282A1F-C996-4A67-A8C8-FB08C683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68849-A0B2-4ADB-8BE2-49EDB362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94284-2B53-4BEE-B55F-28DC475E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3082F9C-F102-4CD3-90DF-0FF2091B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8938EF-C877-42CA-B497-4E32DF28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956E12-5EB3-4E7B-9143-A3298243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4567E56-915B-4186-84F5-18FE2004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AB82C1-3C7E-4FF5-A9C2-98C4007E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052C19-EF82-44F1-80EE-D7E01752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CBF1C9-5043-4689-8CB5-2073DA65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58A8E2-A4B4-499C-858E-357BA1A6F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3A46CC-2F09-4FA3-ADCD-8DF4C52F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60E3CA0-71A5-41F8-8727-DFC3848F5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2833E-E7EB-4F49-8737-03766C43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0501B95-D43B-4320-80A3-65C1A309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716AFD1-6B4C-4D1B-A571-1A3CD069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D0EB3B-0183-428B-91FE-43D9662F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A5A25C2-C4E8-4A22-AEBD-76FE2758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2CFB843-1055-40A5-A5E7-72F9889B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CFFBDD0-1F57-447F-B316-427037D5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83D33A6-91A9-44A5-BEAD-BCE91DA9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A61C611-3161-4652-90A7-3E6A2FA1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B709BAF-15BA-426B-960A-DCFD0923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2E64A2-EAD4-4D90-AD0D-A7CF29511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7E707-89FF-437C-AF98-F2B202119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FB38396-9AF3-4687-B665-3DDAFC29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7FE614E-5F95-4FC3-A26F-2EA049FC6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77EB430-7D70-4175-BD75-83D69700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694ECDF-F8BE-4534-B706-C220644C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130D96C-40F5-46D7-A00E-7620E4E7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706D37E-46BB-49CB-8E2A-07D9EDF7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770E2DA-011C-4CCA-AF03-66BE5AEA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F182C52-12D7-4156-9FBB-5FD7FB68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C33553D-06E1-44A2-B474-75381F9A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2956FC-2FFF-4137-9F44-700A79D3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29740-A0C0-4040-87BC-02CF0D38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A79951E-1457-47C1-A79B-1D167E92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E929189-9623-489D-A5A6-3E615B5C2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B0F3C61-47F1-4758-A7C4-2DF46ECCD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32600-A4A5-415C-A4D2-627B21C6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3FE2C-947C-496A-AFEA-14CC1BF3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3FAE8-9965-465A-AD8E-98F97182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408D5-59D2-4FEA-B28E-7F58E755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5E935-79D6-4882-84D3-0780D67593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7DA9CD-CE19-4D39-BB1C-A34887AEEA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B3931-983F-44EC-BFAD-66BD73CE2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272DCF-B60F-4356-9A68-322943E3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AE3C0D-7925-4891-B50A-D885F9A2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176088-B197-434C-A6A0-A5CAC3A3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CD7EAE-D7FA-4BF2-8B9A-FD8E2402E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A0D752-2D96-42E9-BC7B-27703CAF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6CD5A8-8245-42DE-896B-39D491A8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682DD1-5BBA-4D2A-A30E-DBCF74AD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5B6833-8DE9-4076-88C2-6CEB98C9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E5D221-5F43-4A09-9992-C3189BE6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1407AA-58A8-4335-BD31-A4FCA047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146AD-111E-42E5-A56E-E8DABA69B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76CE7B-C9DE-47C6-8394-23F1575B3B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C744CB-B936-47CE-8A7B-5FAC238782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CBB999-0068-4659-BEAE-BE78382B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6800A1-ADB9-4290-91C5-D4404A46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FABABB-D938-4DFA-B7DC-3C0FE74A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163592-A994-4B97-BBB7-EDC81737D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BD99CB-CEA8-45E7-9763-35FBDA069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979814-34C2-49C4-9F19-6E0221A3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C5BCDA-4CCC-4800-809A-F34D0E98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7DB8EE-4BF5-444D-9166-F3B0CEFF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9DC77-940E-4241-804C-879C7249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911344-79A2-4FB2-9670-8741B2DE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FCB2E6-1F15-4AEC-84E1-0BCC2EF3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360811-C246-4903-B3BE-A88F56C7EE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CA537-093A-48C2-AA3E-AD35730D63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FD0AE-9DBC-42B8-BBC7-5171407C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1B34E-F27E-4914-9BA6-EAE2BAC7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D5B41-7BF4-44AA-924B-4EEB740C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030AB-E0CE-4C7A-A539-387170F11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AD374-2A39-4E7B-8196-9957D5834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4F78B-68B0-40F7-80AE-102E2FBA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1840C-172E-47DD-BF5C-1672B32B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D3201-EE8B-4514-A653-87C80EDB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C1D9F-4631-4D83-B164-D9D57EBD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560BF-7B65-4937-B2D4-86A1A8F5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B4BBF-BE52-410A-A681-92664529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3E209-9131-4947-A7FA-87C7795207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66B284-6D0E-420F-988A-D1F17218F9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2DA447-03A6-4E76-A72B-4D0DE931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9BBB93-B17C-44F5-8D22-C0894767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7E4EF0-5352-4660-A01B-5F8D5F4F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A26616-E2E2-498A-8807-EA64FAFAD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372EA-34A1-43E0-A89C-5D2FA00E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8C4E7D-17D1-4447-88ED-10D805F3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7F0E04-C5B4-486A-AE43-3B40B968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E6A6D3-C932-4E3F-ABB4-69CE8192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950F27-C981-4F29-9BAE-14542D8C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AC337A-9CE6-4587-9C3E-5264B78B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B3E13C-D722-4B1D-853A-C2174856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5A8227-6321-4900-AD1D-52DDC73914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598B57-3509-4FD6-96CE-1235C75F9E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07F809-217E-470F-92A2-DBEA9BBF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9867DE-EF53-4005-8FC3-171AB9E2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2769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2770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2771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2772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2773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2774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2775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7808-D999-4521-B039-D8369433D45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B4E0-A3C2-48F0-AB3F-DAB79634281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4A9E-1DBE-4026-A6E6-8D574C77C0C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25AD-9198-4FDF-A9C3-781E25FF517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2637-1844-4565-A8DD-F1071E8CEE3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04CF-44CC-4EDD-8F0F-72A90F7CBB6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0986-74B3-4EE8-AD85-3CA1719A504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3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3F77-F533-4D14-882F-C43A31B178C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8FBB-C679-456C-A81E-B880FB5E99F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8582-48EF-402B-9E88-B06846093EA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3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6C09-BE72-400F-8846-FCC907B2A6C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F8D4-0E09-49E1-87EC-62EC77A098B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C85A-06BE-441D-AEF5-50DAACAD1CD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sldNum" idx="4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8983-94D8-46C3-85FE-1F78E0794A9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4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B26D-CF4D-4DC6-ADDB-A5188A1CC5B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36A4-BB00-4A99-A4BF-DC59587BBF3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 type="dt" idx="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 type="sldNum" idx="4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0E3A-02B1-4550-BAAB-BC8BCB736F8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5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CBC2-F041-49E8-95FA-7187D0E18C6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F72B-364B-4D5D-B395-E9A536A2EBC2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25F8-0C44-436D-8513-C238CC82F9E6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100B-C4AF-4048-B9D5-7ADE0C3EAF06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ftr" idx="6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22F6-D11F-4CDF-9D05-247E9B7C3E21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96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7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8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9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0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4145-1C43-4B2D-8F74-1891E59AF49E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6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A03D-8097-4F7D-918B-2820F278FEED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6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DCFB-6B0F-4968-9318-64B798A47391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 type="ftr" idx="7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62C3-6F74-4A25-9E63-A9E5AD219AC4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 type="ftr" idx="7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6F0C-0BE0-4E52-9C9B-0E4D9575A293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 type="ftr" idx="7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859F-3798-4225-9584-961AED9CC625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 type="ftr" idx="8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22FD-7A5D-4E1A-889E-4564E32B2851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8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1C03-0B10-442C-9690-6BB249A1E2FC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33793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43" name="椭圆 33794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4" name="椭圆 33795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5" name="椭圆 33796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6" name="椭圆 33797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7" name="椭圆 33798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8" name="椭圆 33799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0647-263D-4717-BCCF-52C16D068B2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E5E5-845F-442E-A3EE-1BB898A944F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4A07-24C6-4C21-853B-CA43EC81ADE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4410-8479-4EA5-927D-B6019BB71F1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E0B9-0C92-459A-B694-2093F7AB3A2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F6D1-8BA8-48C2-A1C6-059C8F2F130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9.gif"/><Relationship Id="rId8" Type="http://schemas.openxmlformats.org/officeDocument/2006/relationships/image" Target="../media/image19.gif"/><Relationship Id="rId9" Type="http://schemas.openxmlformats.org/officeDocument/2006/relationships/image" Target="../media/image17.gif"/><Relationship Id="rId10" Type="http://schemas.openxmlformats.org/officeDocument/2006/relationships/image" Target="../media/image17.gif"/><Relationship Id="rId11" Type="http://schemas.openxmlformats.org/officeDocument/2006/relationships/image" Target="../media/image17.gif"/><Relationship Id="rId12" Type="http://schemas.openxmlformats.org/officeDocument/2006/relationships/image" Target="../media/image17.gif"/><Relationship Id="rId13" Type="http://schemas.openxmlformats.org/officeDocument/2006/relationships/audio" Target="../media/start.wav"/><Relationship Id="rId14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矩形 28673"/>
          <p:cNvSpPr/>
          <p:nvPr/>
        </p:nvSpPr>
        <p:spPr>
          <a:xfrm>
            <a:off x="269640" y="5176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1" name="矩形 28674"/>
          <p:cNvSpPr/>
          <p:nvPr/>
        </p:nvSpPr>
        <p:spPr>
          <a:xfrm>
            <a:off x="485640" y="5392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2" name="Rectangle 7"/>
          <p:cNvSpPr/>
          <p:nvPr/>
        </p:nvSpPr>
        <p:spPr>
          <a:xfrm>
            <a:off x="1692360" y="620640"/>
            <a:ext cx="5283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扇形统计图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3" name="TextBox 3"/>
          <p:cNvSpPr/>
          <p:nvPr/>
        </p:nvSpPr>
        <p:spPr>
          <a:xfrm>
            <a:off x="826920" y="2205000"/>
            <a:ext cx="446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扇形统计图的认识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三、运用知识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TextBox 3"/>
          <p:cNvSpPr/>
          <p:nvPr/>
        </p:nvSpPr>
        <p:spPr>
          <a:xfrm>
            <a:off x="611280" y="1576440"/>
            <a:ext cx="63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李明每天的作息时间安排如下图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0" name="TextBox 13"/>
          <p:cNvSpPr/>
          <p:nvPr/>
        </p:nvSpPr>
        <p:spPr>
          <a:xfrm>
            <a:off x="539640" y="544500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李明每天花多少小时做作业？你还能得到哪些信息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1" name="TextBox 13"/>
          <p:cNvSpPr/>
          <p:nvPr/>
        </p:nvSpPr>
        <p:spPr>
          <a:xfrm>
            <a:off x="0" y="6093000"/>
            <a:ext cx="9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    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答：李明每天花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.92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小时做作业；花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4.08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小时上课；花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3.12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小时活动；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……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2" name="TextBox 13"/>
          <p:cNvSpPr/>
          <p:nvPr/>
        </p:nvSpPr>
        <p:spPr>
          <a:xfrm>
            <a:off x="539640" y="544500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你认为李明的作息时间安排得合理吗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3" name="TextBox 13"/>
          <p:cNvSpPr/>
          <p:nvPr/>
        </p:nvSpPr>
        <p:spPr>
          <a:xfrm>
            <a:off x="539640" y="544500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你的作息时间与李明的有什么不同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694" name="图片 27655" descr="90"/>
          <p:cNvPicPr/>
          <p:nvPr/>
        </p:nvPicPr>
        <p:blipFill>
          <a:blip r:embed="rId1"/>
          <a:stretch/>
        </p:blipFill>
        <p:spPr>
          <a:xfrm>
            <a:off x="2124000" y="2133720"/>
            <a:ext cx="4768920" cy="287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四、全课总结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6" name="TextBox 4"/>
          <p:cNvSpPr/>
          <p:nvPr/>
        </p:nvSpPr>
        <p:spPr>
          <a:xfrm>
            <a:off x="1103400" y="2266920"/>
            <a:ext cx="7572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今天都有哪些收获？还有什么问题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7" name="Picture 2" descr="星08"/>
          <p:cNvPicPr/>
          <p:nvPr/>
        </p:nvPicPr>
        <p:blipFill>
          <a:blip r:embed="rId1"/>
          <a:stretch/>
        </p:blipFill>
        <p:spPr>
          <a:xfrm>
            <a:off x="7315200" y="68580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698" name="Picture 3" descr="星08"/>
          <p:cNvPicPr/>
          <p:nvPr/>
        </p:nvPicPr>
        <p:blipFill>
          <a:blip r:embed="rId2"/>
          <a:stretch/>
        </p:blipFill>
        <p:spPr>
          <a:xfrm>
            <a:off x="304920" y="487692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1699" name="WordArt 4"/>
          <p:cNvSpPr txBox="1"/>
          <p:nvPr/>
        </p:nvSpPr>
        <p:spPr>
          <a:xfrm>
            <a:off x="1523880" y="4572000"/>
            <a:ext cx="6096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uFillTx/>
                <a:latin typeface="宋体"/>
              </a:rPr>
              <a:t>Good Bye!</a:t>
            </a:r>
            <a:endParaRPr b="0" i="1" lang="en-US" sz="3200" spc="-1" strike="noStrike" u="sng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uFillTx/>
              <a:latin typeface="宋体"/>
              <a:ea typeface="宋体"/>
            </a:endParaRPr>
          </a:p>
        </p:txBody>
      </p:sp>
      <p:pic>
        <p:nvPicPr>
          <p:cNvPr id="1700" name="Picture 5" descr="星08"/>
          <p:cNvPicPr/>
          <p:nvPr/>
        </p:nvPicPr>
        <p:blipFill>
          <a:blip r:embed="rId5"/>
          <a:stretch/>
        </p:blipFill>
        <p:spPr>
          <a:xfrm>
            <a:off x="539640" y="5535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701" name="Picture 6" descr="星08"/>
          <p:cNvPicPr/>
          <p:nvPr/>
        </p:nvPicPr>
        <p:blipFill>
          <a:blip r:embed="rId6"/>
          <a:stretch/>
        </p:blipFill>
        <p:spPr>
          <a:xfrm>
            <a:off x="7451640" y="1197000"/>
            <a:ext cx="1258920" cy="790560"/>
          </a:xfrm>
          <a:prstGeom prst="rect">
            <a:avLst/>
          </a:prstGeom>
          <a:ln w="0">
            <a:noFill/>
          </a:ln>
        </p:spPr>
      </p:pic>
      <p:sp>
        <p:nvSpPr>
          <p:cNvPr id="1702" name="WordArt 7"/>
          <p:cNvSpPr txBox="1"/>
          <p:nvPr/>
        </p:nvSpPr>
        <p:spPr>
          <a:xfrm>
            <a:off x="1476360" y="2924280"/>
            <a:ext cx="5832360" cy="71280"/>
          </a:xfrm>
          <a:prstGeom prst="rect">
            <a:avLst/>
          </a:prstGeom>
        </p:spPr>
        <p:txBody>
          <a:bodyPr wrap="none" fromWordArt="1" lIns="90000" rIns="90000" tIns="24840" bIns="24840" anchor="t" anchorCtr="1">
            <a:prstTxWarp prst="textArchUp">
              <a:avLst>
                <a:gd name="adj" fmla="val 108003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 u="sng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uFillTx/>
                <a:latin typeface="宋体"/>
              </a:rPr>
              <a:t>再见</a:t>
            </a:r>
            <a:endParaRPr b="1" i="1" lang="en-US" sz="6600" spc="-1" strike="noStrike" u="sng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uFillTx/>
              <a:latin typeface="宋体"/>
              <a:ea typeface="宋体"/>
            </a:endParaRPr>
          </a:p>
        </p:txBody>
      </p:sp>
      <p:pic>
        <p:nvPicPr>
          <p:cNvPr id="1703" name="Picture 8" descr="星08"/>
          <p:cNvPicPr/>
          <p:nvPr/>
        </p:nvPicPr>
        <p:blipFill>
          <a:blip r:embed="rId9"/>
          <a:stretch/>
        </p:blipFill>
        <p:spPr>
          <a:xfrm>
            <a:off x="539640" y="476280"/>
            <a:ext cx="884520" cy="884160"/>
          </a:xfrm>
          <a:prstGeom prst="rect">
            <a:avLst/>
          </a:prstGeom>
          <a:ln w="0">
            <a:noFill/>
          </a:ln>
        </p:spPr>
      </p:pic>
      <p:pic>
        <p:nvPicPr>
          <p:cNvPr id="1704" name="Picture 9" descr="星08"/>
          <p:cNvPicPr/>
          <p:nvPr/>
        </p:nvPicPr>
        <p:blipFill>
          <a:blip r:embed="rId10"/>
          <a:stretch/>
        </p:blipFill>
        <p:spPr>
          <a:xfrm>
            <a:off x="676440" y="987480"/>
            <a:ext cx="1258560" cy="790560"/>
          </a:xfrm>
          <a:prstGeom prst="rect">
            <a:avLst/>
          </a:prstGeom>
          <a:ln w="0">
            <a:noFill/>
          </a:ln>
        </p:spPr>
      </p:pic>
      <p:pic>
        <p:nvPicPr>
          <p:cNvPr id="1705" name="Picture 10" descr="星08"/>
          <p:cNvPicPr/>
          <p:nvPr/>
        </p:nvPicPr>
        <p:blipFill>
          <a:blip r:embed="rId11"/>
          <a:stretch/>
        </p:blipFill>
        <p:spPr>
          <a:xfrm>
            <a:off x="7451640" y="522936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706" name="Picture 11" descr="星08"/>
          <p:cNvPicPr/>
          <p:nvPr/>
        </p:nvPicPr>
        <p:blipFill>
          <a:blip r:embed="rId12"/>
          <a:stretch/>
        </p:blipFill>
        <p:spPr>
          <a:xfrm>
            <a:off x="7588080" y="5740560"/>
            <a:ext cx="1258920" cy="7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一、复习导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5" name="组合 19458"/>
          <p:cNvGrpSpPr/>
          <p:nvPr/>
        </p:nvGrpSpPr>
        <p:grpSpPr>
          <a:xfrm>
            <a:off x="826920" y="1700280"/>
            <a:ext cx="4943520" cy="1414440"/>
            <a:chOff x="826920" y="1700280"/>
            <a:chExt cx="4943520" cy="1414440"/>
          </a:xfrm>
        </p:grpSpPr>
        <p:pic>
          <p:nvPicPr>
            <p:cNvPr id="1486" name="Picture 20" descr="男天使副本"/>
            <p:cNvPicPr/>
            <p:nvPr/>
          </p:nvPicPr>
          <p:blipFill>
            <a:blip r:embed="rId1"/>
            <a:stretch/>
          </p:blipFill>
          <p:spPr>
            <a:xfrm>
              <a:off x="826920" y="1700280"/>
              <a:ext cx="152424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7" name="AutoShape 27"/>
            <p:cNvSpPr/>
            <p:nvPr/>
          </p:nvSpPr>
          <p:spPr>
            <a:xfrm>
              <a:off x="2556000" y="1700280"/>
              <a:ext cx="3214440" cy="1317600"/>
            </a:xfrm>
            <a:prstGeom prst="wedgeRoundRectCallout">
              <a:avLst>
                <a:gd name="adj1" fmla="val -60023"/>
                <a:gd name="adj2" fmla="val 2831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学校要为咱们班购置一些运动器材，你能提出一些建议吗？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488" name="组合 19461"/>
          <p:cNvGrpSpPr/>
          <p:nvPr/>
        </p:nvGrpSpPr>
        <p:grpSpPr>
          <a:xfrm>
            <a:off x="468360" y="3860640"/>
            <a:ext cx="4011480" cy="1800360"/>
            <a:chOff x="468360" y="3860640"/>
            <a:chExt cx="4011480" cy="1800360"/>
          </a:xfrm>
        </p:grpSpPr>
        <p:sp>
          <p:nvSpPr>
            <p:cNvPr id="1489" name="AutoShape 27"/>
            <p:cNvSpPr/>
            <p:nvPr/>
          </p:nvSpPr>
          <p:spPr>
            <a:xfrm>
              <a:off x="1979640" y="4005360"/>
              <a:ext cx="2500200" cy="1322280"/>
            </a:xfrm>
            <a:prstGeom prst="wedgeRoundRectCallout">
              <a:avLst>
                <a:gd name="adj1" fmla="val -62509"/>
                <a:gd name="adj2" fmla="val -1302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我觉得应该先调查一下喜欢每种运动的各有多少人。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490" name="图片 19463" descr="67"/>
            <p:cNvPicPr/>
            <p:nvPr/>
          </p:nvPicPr>
          <p:blipFill>
            <a:blip r:embed="rId2"/>
            <a:stretch/>
          </p:blipFill>
          <p:spPr>
            <a:xfrm>
              <a:off x="468360" y="3860640"/>
              <a:ext cx="1122480" cy="18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1" name="矩形 19464"/>
          <p:cNvSpPr/>
          <p:nvPr/>
        </p:nvSpPr>
        <p:spPr>
          <a:xfrm>
            <a:off x="2063520" y="34830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2" name="矩形 19465"/>
          <p:cNvSpPr/>
          <p:nvPr/>
        </p:nvSpPr>
        <p:spPr>
          <a:xfrm>
            <a:off x="2279520" y="36990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3" name="矩形 19466"/>
          <p:cNvSpPr/>
          <p:nvPr/>
        </p:nvSpPr>
        <p:spPr>
          <a:xfrm>
            <a:off x="2495160" y="391464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TextBox 59"/>
          <p:cNvSpPr/>
          <p:nvPr/>
        </p:nvSpPr>
        <p:spPr>
          <a:xfrm>
            <a:off x="6919920" y="3933720"/>
            <a:ext cx="1366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22.5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6" name="Rectangle 2"/>
          <p:cNvSpPr/>
          <p:nvPr/>
        </p:nvSpPr>
        <p:spPr>
          <a:xfrm>
            <a:off x="179280" y="1455840"/>
            <a:ext cx="7777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一）整理信息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7" name="矩形 20484"/>
          <p:cNvSpPr/>
          <p:nvPr/>
        </p:nvSpPr>
        <p:spPr>
          <a:xfrm>
            <a:off x="2590560" y="2313360"/>
            <a:ext cx="4050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六（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班同学最喜欢运动项目的情况统计表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1498" name=""/>
          <p:cNvGraphicFramePr/>
          <p:nvPr/>
        </p:nvGraphicFramePr>
        <p:xfrm>
          <a:off x="1547640" y="2852640"/>
          <a:ext cx="6383160" cy="2408400"/>
        </p:xfrm>
        <a:graphic>
          <a:graphicData uri="http://schemas.openxmlformats.org/drawingml/2006/table">
            <a:tbl>
              <a:tblPr/>
              <a:tblGrid>
                <a:gridCol w="1152360"/>
                <a:gridCol w="1167120"/>
                <a:gridCol w="1015920"/>
                <a:gridCol w="1015920"/>
                <a:gridCol w="1015920"/>
                <a:gridCol w="1015920"/>
              </a:tblGrid>
              <a:tr h="94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项目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乒乓球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足球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跳绳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踢毽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其他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人数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12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8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5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6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9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百分比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9" name="TextBox 1"/>
          <p:cNvSpPr/>
          <p:nvPr/>
        </p:nvSpPr>
        <p:spPr>
          <a:xfrm>
            <a:off x="2948040" y="3922560"/>
            <a:ext cx="1254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30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00" name="TextBox 54"/>
          <p:cNvSpPr/>
          <p:nvPr/>
        </p:nvSpPr>
        <p:spPr>
          <a:xfrm>
            <a:off x="4857840" y="3935520"/>
            <a:ext cx="1368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12.5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01" name="TextBox 55"/>
          <p:cNvSpPr/>
          <p:nvPr/>
        </p:nvSpPr>
        <p:spPr>
          <a:xfrm>
            <a:off x="3948120" y="3935520"/>
            <a:ext cx="11476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20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02" name="TextBox 60"/>
          <p:cNvSpPr/>
          <p:nvPr/>
        </p:nvSpPr>
        <p:spPr>
          <a:xfrm>
            <a:off x="6006960" y="3922560"/>
            <a:ext cx="1130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15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03" name="组合 20519"/>
          <p:cNvGrpSpPr/>
          <p:nvPr/>
        </p:nvGrpSpPr>
        <p:grpSpPr>
          <a:xfrm>
            <a:off x="395280" y="5084640"/>
            <a:ext cx="5545080" cy="1279800"/>
            <a:chOff x="395280" y="5084640"/>
            <a:chExt cx="5545080" cy="1279800"/>
          </a:xfrm>
        </p:grpSpPr>
        <p:pic>
          <p:nvPicPr>
            <p:cNvPr id="1504" name="Picture 19" descr="女天使副本"/>
            <p:cNvPicPr/>
            <p:nvPr/>
          </p:nvPicPr>
          <p:blipFill>
            <a:blip r:embed="rId1"/>
            <a:stretch/>
          </p:blipFill>
          <p:spPr>
            <a:xfrm>
              <a:off x="395280" y="5084640"/>
              <a:ext cx="152388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5" name="AutoShape 27"/>
            <p:cNvSpPr/>
            <p:nvPr/>
          </p:nvSpPr>
          <p:spPr>
            <a:xfrm>
              <a:off x="2052720" y="5157720"/>
              <a:ext cx="3887640" cy="936720"/>
            </a:xfrm>
            <a:prstGeom prst="wedgeRoundRectCallout">
              <a:avLst>
                <a:gd name="adj1" fmla="val -56328"/>
                <a:gd name="adj2" fmla="val 3474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你能算出喜欢每种运动的人数各占全班的百分之几吗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1506" name="对象 20522" descr=""/>
          <p:cNvPicPr/>
          <p:nvPr/>
        </p:nvPicPr>
        <p:blipFill>
          <a:blip r:embed="rId2"/>
          <a:stretch/>
        </p:blipFill>
        <p:spPr>
          <a:xfrm>
            <a:off x="1523880" y="1400040"/>
            <a:ext cx="6096240" cy="4067280"/>
          </a:xfrm>
          <a:prstGeom prst="rect">
            <a:avLst/>
          </a:prstGeom>
          <a:ln w="0">
            <a:noFill/>
          </a:ln>
        </p:spPr>
      </p:pic>
      <p:sp>
        <p:nvSpPr>
          <p:cNvPr id="1507" name="矩形 20523"/>
          <p:cNvSpPr/>
          <p:nvPr/>
        </p:nvSpPr>
        <p:spPr>
          <a:xfrm>
            <a:off x="2063520" y="34830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Rectangle 2"/>
          <p:cNvSpPr/>
          <p:nvPr/>
        </p:nvSpPr>
        <p:spPr>
          <a:xfrm>
            <a:off x="179280" y="1455840"/>
            <a:ext cx="6131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二）生成统计图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09" name="组合 21506"/>
          <p:cNvGrpSpPr/>
          <p:nvPr/>
        </p:nvGrpSpPr>
        <p:grpSpPr>
          <a:xfrm>
            <a:off x="1384200" y="3673080"/>
            <a:ext cx="3754440" cy="2158920"/>
            <a:chOff x="1384200" y="3673080"/>
            <a:chExt cx="3754440" cy="2158920"/>
          </a:xfrm>
        </p:grpSpPr>
        <p:sp>
          <p:nvSpPr>
            <p:cNvPr id="1510" name="直接连接符 21507"/>
            <p:cNvSpPr/>
            <p:nvPr/>
          </p:nvSpPr>
          <p:spPr>
            <a:xfrm>
              <a:off x="1393920" y="5830560"/>
              <a:ext cx="3744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11" name="直接连接符 21508"/>
            <p:cNvSpPr/>
            <p:nvPr/>
          </p:nvSpPr>
          <p:spPr>
            <a:xfrm flipV="1">
              <a:off x="1384200" y="3673080"/>
              <a:ext cx="0" cy="2158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12" name="直接连接符 21509"/>
            <p:cNvSpPr/>
            <p:nvPr/>
          </p:nvSpPr>
          <p:spPr>
            <a:xfrm>
              <a:off x="1393920" y="5547960"/>
              <a:ext cx="3744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13" name="直接连接符 21510"/>
            <p:cNvSpPr/>
            <p:nvPr/>
          </p:nvSpPr>
          <p:spPr>
            <a:xfrm>
              <a:off x="1389240" y="5244840"/>
              <a:ext cx="3744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14" name="直接连接符 21511"/>
            <p:cNvSpPr/>
            <p:nvPr/>
          </p:nvSpPr>
          <p:spPr>
            <a:xfrm>
              <a:off x="1384200" y="4956120"/>
              <a:ext cx="3745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15" name="直接连接符 21512"/>
            <p:cNvSpPr/>
            <p:nvPr/>
          </p:nvSpPr>
          <p:spPr>
            <a:xfrm>
              <a:off x="1389240" y="4659120"/>
              <a:ext cx="3744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16" name="直接连接符 21513"/>
            <p:cNvSpPr/>
            <p:nvPr/>
          </p:nvSpPr>
          <p:spPr>
            <a:xfrm>
              <a:off x="1384200" y="4360680"/>
              <a:ext cx="3745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17" name="直接连接符 21514"/>
            <p:cNvSpPr/>
            <p:nvPr/>
          </p:nvSpPr>
          <p:spPr>
            <a:xfrm>
              <a:off x="1384200" y="4082760"/>
              <a:ext cx="3745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18" name="直接连接符 21515"/>
            <p:cNvSpPr/>
            <p:nvPr/>
          </p:nvSpPr>
          <p:spPr>
            <a:xfrm>
              <a:off x="1389240" y="3804840"/>
              <a:ext cx="3744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TextBox 13"/>
          <p:cNvSpPr/>
          <p:nvPr/>
        </p:nvSpPr>
        <p:spPr>
          <a:xfrm>
            <a:off x="1192320" y="6093000"/>
            <a:ext cx="46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从条形统计图中，你知道了什么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21" name="组合 21518"/>
          <p:cNvGrpSpPr/>
          <p:nvPr/>
        </p:nvGrpSpPr>
        <p:grpSpPr>
          <a:xfrm>
            <a:off x="988920" y="3573360"/>
            <a:ext cx="4278240" cy="2573280"/>
            <a:chOff x="988920" y="3573360"/>
            <a:chExt cx="4278240" cy="2573280"/>
          </a:xfrm>
        </p:grpSpPr>
        <p:pic>
          <p:nvPicPr>
            <p:cNvPr id="1522" name="图片 21519" descr="85"/>
            <p:cNvPicPr/>
            <p:nvPr/>
          </p:nvPicPr>
          <p:blipFill>
            <a:blip r:embed="rId1"/>
            <a:stretch/>
          </p:blipFill>
          <p:spPr>
            <a:xfrm>
              <a:off x="1320840" y="3725640"/>
              <a:ext cx="3882960" cy="215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23" name="组合 21520"/>
            <p:cNvGrpSpPr/>
            <p:nvPr/>
          </p:nvGrpSpPr>
          <p:grpSpPr>
            <a:xfrm>
              <a:off x="988920" y="3573360"/>
              <a:ext cx="4278240" cy="2573280"/>
              <a:chOff x="988920" y="3573360"/>
              <a:chExt cx="4278240" cy="2573280"/>
            </a:xfrm>
          </p:grpSpPr>
          <p:sp>
            <p:nvSpPr>
              <p:cNvPr id="1524" name="文本框 21521"/>
              <p:cNvSpPr/>
              <p:nvPr/>
            </p:nvSpPr>
            <p:spPr>
              <a:xfrm>
                <a:off x="1320840" y="5742000"/>
                <a:ext cx="1079280" cy="38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乒乓球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25" name="文本框 21522"/>
              <p:cNvSpPr/>
              <p:nvPr/>
            </p:nvSpPr>
            <p:spPr>
              <a:xfrm>
                <a:off x="2179440" y="5738760"/>
                <a:ext cx="1008360" cy="38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足球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26" name="文本框 21523"/>
              <p:cNvSpPr/>
              <p:nvPr/>
            </p:nvSpPr>
            <p:spPr>
              <a:xfrm>
                <a:off x="2962080" y="5751360"/>
                <a:ext cx="720720" cy="38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跳绳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27" name="文本框 21524"/>
              <p:cNvSpPr/>
              <p:nvPr/>
            </p:nvSpPr>
            <p:spPr>
              <a:xfrm>
                <a:off x="3720960" y="5757840"/>
                <a:ext cx="725760" cy="38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踢毽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28" name="文本框 21525"/>
              <p:cNvSpPr/>
              <p:nvPr/>
            </p:nvSpPr>
            <p:spPr>
              <a:xfrm>
                <a:off x="4541760" y="5760720"/>
                <a:ext cx="725400" cy="38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其他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529" name="组合 21526"/>
              <p:cNvGrpSpPr/>
              <p:nvPr/>
            </p:nvGrpSpPr>
            <p:grpSpPr>
              <a:xfrm>
                <a:off x="988920" y="3573360"/>
                <a:ext cx="3930840" cy="2440080"/>
                <a:chOff x="988920" y="3573360"/>
                <a:chExt cx="3930840" cy="2440080"/>
              </a:xfrm>
            </p:grpSpPr>
            <p:sp>
              <p:nvSpPr>
                <p:cNvPr id="1530" name="文本框 21527"/>
                <p:cNvSpPr/>
                <p:nvPr/>
              </p:nvSpPr>
              <p:spPr>
                <a:xfrm>
                  <a:off x="1114200" y="5627520"/>
                  <a:ext cx="27792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0</a:t>
                  </a:r>
                  <a:endPara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31" name="文本框 21528"/>
                <p:cNvSpPr/>
                <p:nvPr/>
              </p:nvSpPr>
              <p:spPr>
                <a:xfrm>
                  <a:off x="1104840" y="5310000"/>
                  <a:ext cx="27792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32" name="文本框 21529"/>
                <p:cNvSpPr/>
                <p:nvPr/>
              </p:nvSpPr>
              <p:spPr>
                <a:xfrm>
                  <a:off x="1104840" y="5022720"/>
                  <a:ext cx="27792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4</a:t>
                  </a:r>
                  <a:endPara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33" name="文本框 21530"/>
                <p:cNvSpPr/>
                <p:nvPr/>
              </p:nvSpPr>
              <p:spPr>
                <a:xfrm>
                  <a:off x="1104840" y="4740120"/>
                  <a:ext cx="27792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6</a:t>
                  </a:r>
                  <a:endPara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34" name="文本框 21531"/>
                <p:cNvSpPr/>
                <p:nvPr/>
              </p:nvSpPr>
              <p:spPr>
                <a:xfrm>
                  <a:off x="1119240" y="4456080"/>
                  <a:ext cx="27756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8</a:t>
                  </a:r>
                  <a:endPara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35" name="文本框 21532"/>
                <p:cNvSpPr/>
                <p:nvPr/>
              </p:nvSpPr>
              <p:spPr>
                <a:xfrm>
                  <a:off x="988920" y="4157640"/>
                  <a:ext cx="43200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0</a:t>
                  </a:r>
                  <a:endPara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36" name="文本框 21533"/>
                <p:cNvSpPr/>
                <p:nvPr/>
              </p:nvSpPr>
              <p:spPr>
                <a:xfrm>
                  <a:off x="988920" y="3870000"/>
                  <a:ext cx="43200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2</a:t>
                  </a:r>
                  <a:endPara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37" name="文本框 21534"/>
                <p:cNvSpPr/>
                <p:nvPr/>
              </p:nvSpPr>
              <p:spPr>
                <a:xfrm>
                  <a:off x="993600" y="3573360"/>
                  <a:ext cx="43200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4</a:t>
                  </a:r>
                  <a:endPara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38" name="文本框 21535"/>
                <p:cNvSpPr/>
                <p:nvPr/>
              </p:nvSpPr>
              <p:spPr>
                <a:xfrm>
                  <a:off x="1527120" y="3760560"/>
                  <a:ext cx="43164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2</a:t>
                  </a:r>
                  <a:endPara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39" name="文本框 21536"/>
                <p:cNvSpPr/>
                <p:nvPr/>
              </p:nvSpPr>
              <p:spPr>
                <a:xfrm>
                  <a:off x="2347920" y="4340160"/>
                  <a:ext cx="27792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8</a:t>
                  </a:r>
                  <a:endPara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40" name="文本框 21537"/>
                <p:cNvSpPr/>
                <p:nvPr/>
              </p:nvSpPr>
              <p:spPr>
                <a:xfrm>
                  <a:off x="3111480" y="4762440"/>
                  <a:ext cx="27792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41" name="文本框 21538"/>
                <p:cNvSpPr/>
                <p:nvPr/>
              </p:nvSpPr>
              <p:spPr>
                <a:xfrm>
                  <a:off x="3894120" y="4619520"/>
                  <a:ext cx="27792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6</a:t>
                  </a:r>
                  <a:endPara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42" name="文本框 21539"/>
                <p:cNvSpPr/>
                <p:nvPr/>
              </p:nvSpPr>
              <p:spPr>
                <a:xfrm>
                  <a:off x="4641840" y="4195440"/>
                  <a:ext cx="27792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9</a:t>
                  </a:r>
                  <a:endPara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grpSp>
        <p:nvGrpSpPr>
          <p:cNvPr id="1543" name="组合 21540"/>
          <p:cNvGrpSpPr/>
          <p:nvPr/>
        </p:nvGrpSpPr>
        <p:grpSpPr>
          <a:xfrm>
            <a:off x="0" y="2276640"/>
            <a:ext cx="4825800" cy="1800000"/>
            <a:chOff x="0" y="2276640"/>
            <a:chExt cx="4825800" cy="1800000"/>
          </a:xfrm>
        </p:grpSpPr>
        <p:sp>
          <p:nvSpPr>
            <p:cNvPr id="1544" name="AutoShape 27"/>
            <p:cNvSpPr/>
            <p:nvPr/>
          </p:nvSpPr>
          <p:spPr>
            <a:xfrm>
              <a:off x="1387440" y="2610000"/>
              <a:ext cx="3438360" cy="583920"/>
            </a:xfrm>
            <a:prstGeom prst="wedgeRoundRectCallout">
              <a:avLst>
                <a:gd name="adj1" fmla="val -54384"/>
                <a:gd name="adj2" fmla="val -1358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我制成的是条形统计图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545" name="图片 21542" descr="67"/>
            <p:cNvPicPr/>
            <p:nvPr/>
          </p:nvPicPr>
          <p:blipFill>
            <a:blip r:embed="rId2"/>
            <a:stretch/>
          </p:blipFill>
          <p:spPr>
            <a:xfrm>
              <a:off x="0" y="2276640"/>
              <a:ext cx="1122120" cy="18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6" name="组合 21543"/>
          <p:cNvGrpSpPr/>
          <p:nvPr/>
        </p:nvGrpSpPr>
        <p:grpSpPr>
          <a:xfrm>
            <a:off x="4500720" y="1341360"/>
            <a:ext cx="4187160" cy="1279440"/>
            <a:chOff x="4500720" y="1341360"/>
            <a:chExt cx="4187160" cy="1279440"/>
          </a:xfrm>
        </p:grpSpPr>
        <p:pic>
          <p:nvPicPr>
            <p:cNvPr id="1547" name="Picture 16" descr="女天使"/>
            <p:cNvPicPr/>
            <p:nvPr/>
          </p:nvPicPr>
          <p:blipFill>
            <a:blip r:embed="rId3"/>
            <a:stretch/>
          </p:blipFill>
          <p:spPr>
            <a:xfrm>
              <a:off x="7164000" y="134136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8" name="AutoShape 27"/>
            <p:cNvSpPr/>
            <p:nvPr/>
          </p:nvSpPr>
          <p:spPr>
            <a:xfrm>
              <a:off x="4500720" y="1536480"/>
              <a:ext cx="2580840" cy="956880"/>
            </a:xfrm>
            <a:prstGeom prst="wedgeRoundRectCallout">
              <a:avLst>
                <a:gd name="adj1" fmla="val 58300"/>
                <a:gd name="adj2" fmla="val 2595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你能根据需要制成相应的统计图吗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49" name="组合 21546"/>
          <p:cNvGrpSpPr/>
          <p:nvPr/>
        </p:nvGrpSpPr>
        <p:grpSpPr>
          <a:xfrm>
            <a:off x="5133960" y="3645000"/>
            <a:ext cx="4019040" cy="2015640"/>
            <a:chOff x="5133960" y="3645000"/>
            <a:chExt cx="4019040" cy="2015640"/>
          </a:xfrm>
        </p:grpSpPr>
        <p:sp>
          <p:nvSpPr>
            <p:cNvPr id="1550" name="AutoShape 27"/>
            <p:cNvSpPr/>
            <p:nvPr/>
          </p:nvSpPr>
          <p:spPr>
            <a:xfrm>
              <a:off x="5133960" y="3645000"/>
              <a:ext cx="2590560" cy="1728360"/>
            </a:xfrm>
            <a:prstGeom prst="wedgeRoundRectCallout">
              <a:avLst>
                <a:gd name="adj1" fmla="val 62745"/>
                <a:gd name="adj2" fmla="val -518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从图中我知道了：喜欢乒乓球的人数最多，喜欢跳绳的人数最少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……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551" name="图片 21548" descr="49"/>
            <p:cNvPicPr/>
            <p:nvPr/>
          </p:nvPicPr>
          <p:blipFill>
            <a:blip r:embed="rId4"/>
            <a:stretch/>
          </p:blipFill>
          <p:spPr>
            <a:xfrm>
              <a:off x="7724520" y="3862080"/>
              <a:ext cx="1428480" cy="179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2" name="矩形 21549"/>
          <p:cNvSpPr/>
          <p:nvPr/>
        </p:nvSpPr>
        <p:spPr>
          <a:xfrm>
            <a:off x="1951200" y="3343320"/>
            <a:ext cx="24631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六（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</a:t>
            </a:r>
            <a:r>
              <a:rPr b="0" i="1" lang="zh-CN" sz="1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）班同学最喜欢的运动项目统计图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54" name="组合 22530"/>
          <p:cNvGrpSpPr/>
          <p:nvPr/>
        </p:nvGrpSpPr>
        <p:grpSpPr>
          <a:xfrm>
            <a:off x="466560" y="2203560"/>
            <a:ext cx="3313080" cy="1801800"/>
            <a:chOff x="466560" y="2203560"/>
            <a:chExt cx="3313080" cy="1801800"/>
          </a:xfrm>
        </p:grpSpPr>
        <p:pic>
          <p:nvPicPr>
            <p:cNvPr id="1555" name="图片 22531" descr="82"/>
            <p:cNvPicPr/>
            <p:nvPr/>
          </p:nvPicPr>
          <p:blipFill>
            <a:blip r:embed="rId1"/>
            <a:stretch/>
          </p:blipFill>
          <p:spPr>
            <a:xfrm>
              <a:off x="466560" y="2203560"/>
              <a:ext cx="1414440" cy="18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AutoShape 27"/>
            <p:cNvSpPr/>
            <p:nvPr/>
          </p:nvSpPr>
          <p:spPr>
            <a:xfrm>
              <a:off x="1906560" y="2276640"/>
              <a:ext cx="1873080" cy="863640"/>
            </a:xfrm>
            <a:prstGeom prst="wedgeRoundRectCallout">
              <a:avLst>
                <a:gd name="adj1" fmla="val -62625"/>
                <a:gd name="adj2" fmla="val -882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我制成了这幅统计图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57" name="组合 22533"/>
          <p:cNvGrpSpPr/>
          <p:nvPr/>
        </p:nvGrpSpPr>
        <p:grpSpPr>
          <a:xfrm>
            <a:off x="971640" y="4041720"/>
            <a:ext cx="4032000" cy="2339640"/>
            <a:chOff x="971640" y="4041720"/>
            <a:chExt cx="4032000" cy="2339640"/>
          </a:xfrm>
        </p:grpSpPr>
        <p:grpSp>
          <p:nvGrpSpPr>
            <p:cNvPr id="1558" name="组合 22534"/>
            <p:cNvGrpSpPr/>
            <p:nvPr/>
          </p:nvGrpSpPr>
          <p:grpSpPr>
            <a:xfrm>
              <a:off x="1620360" y="4402080"/>
              <a:ext cx="2056680" cy="1979280"/>
              <a:chOff x="1620360" y="4402080"/>
              <a:chExt cx="2056680" cy="1979280"/>
            </a:xfrm>
          </p:grpSpPr>
          <p:pic>
            <p:nvPicPr>
              <p:cNvPr id="1559" name="图片 22535" descr="86"/>
              <p:cNvPicPr/>
              <p:nvPr/>
            </p:nvPicPr>
            <p:blipFill>
              <a:blip r:embed="rId2"/>
              <a:stretch/>
            </p:blipFill>
            <p:spPr>
              <a:xfrm>
                <a:off x="1720080" y="4402080"/>
                <a:ext cx="1956960" cy="19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0" name="文本框 22536"/>
              <p:cNvSpPr/>
              <p:nvPr/>
            </p:nvSpPr>
            <p:spPr>
              <a:xfrm>
                <a:off x="2640960" y="4762440"/>
                <a:ext cx="936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乒乓球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0</a:t>
                </a: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%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61" name="文本框 22537"/>
              <p:cNvSpPr/>
              <p:nvPr/>
            </p:nvSpPr>
            <p:spPr>
              <a:xfrm>
                <a:off x="2589840" y="5692680"/>
                <a:ext cx="9363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足球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0</a:t>
                </a: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%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62" name="文本框 22538"/>
              <p:cNvSpPr/>
              <p:nvPr/>
            </p:nvSpPr>
            <p:spPr>
              <a:xfrm>
                <a:off x="1859760" y="4755960"/>
                <a:ext cx="9363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其他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2.5</a:t>
                </a: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%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63" name="文本框 22539"/>
              <p:cNvSpPr/>
              <p:nvPr/>
            </p:nvSpPr>
            <p:spPr>
              <a:xfrm>
                <a:off x="1620360" y="5300280"/>
                <a:ext cx="9363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踢毽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5</a:t>
                </a: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%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64" name="文本框 22540"/>
              <p:cNvSpPr/>
              <p:nvPr/>
            </p:nvSpPr>
            <p:spPr>
              <a:xfrm>
                <a:off x="1990080" y="5684760"/>
                <a:ext cx="936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跳绳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2.5</a:t>
                </a: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%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565" name="文本框 22541"/>
            <p:cNvSpPr/>
            <p:nvPr/>
          </p:nvSpPr>
          <p:spPr>
            <a:xfrm>
              <a:off x="971640" y="4041720"/>
              <a:ext cx="40320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6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六（</a:t>
              </a: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r>
                <a:rPr b="0" i="1" lang="zh-CN" sz="16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）班同学最喜欢的运动项目统计图</a:t>
              </a:r>
              <a:endParaRPr b="0" i="1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66" name="组合 22542"/>
          <p:cNvGrpSpPr/>
          <p:nvPr/>
        </p:nvGrpSpPr>
        <p:grpSpPr>
          <a:xfrm>
            <a:off x="4632480" y="1628640"/>
            <a:ext cx="4187160" cy="1279800"/>
            <a:chOff x="4632480" y="1628640"/>
            <a:chExt cx="4187160" cy="1279800"/>
          </a:xfrm>
        </p:grpSpPr>
        <p:pic>
          <p:nvPicPr>
            <p:cNvPr id="1567" name="Picture 16" descr="女天使"/>
            <p:cNvPicPr/>
            <p:nvPr/>
          </p:nvPicPr>
          <p:blipFill>
            <a:blip r:embed="rId3"/>
            <a:stretch/>
          </p:blipFill>
          <p:spPr>
            <a:xfrm>
              <a:off x="7295760" y="1628640"/>
              <a:ext cx="152388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8" name="AutoShape 27"/>
            <p:cNvSpPr/>
            <p:nvPr/>
          </p:nvSpPr>
          <p:spPr>
            <a:xfrm>
              <a:off x="4632480" y="1824120"/>
              <a:ext cx="2580840" cy="957240"/>
            </a:xfrm>
            <a:prstGeom prst="wedgeRoundRectCallout">
              <a:avLst>
                <a:gd name="adj1" fmla="val 58300"/>
                <a:gd name="adj2" fmla="val 2595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你能根据需要制成相应的统计图吗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69" name="组合 22545"/>
          <p:cNvGrpSpPr/>
          <p:nvPr/>
        </p:nvGrpSpPr>
        <p:grpSpPr>
          <a:xfrm>
            <a:off x="5003640" y="4149720"/>
            <a:ext cx="3662280" cy="1798560"/>
            <a:chOff x="5003640" y="4149720"/>
            <a:chExt cx="3662280" cy="1798560"/>
          </a:xfrm>
        </p:grpSpPr>
        <p:sp>
          <p:nvSpPr>
            <p:cNvPr id="1570" name="AutoShape 27"/>
            <p:cNvSpPr/>
            <p:nvPr/>
          </p:nvSpPr>
          <p:spPr>
            <a:xfrm>
              <a:off x="5003640" y="4365720"/>
              <a:ext cx="2063520" cy="1008000"/>
            </a:xfrm>
            <a:prstGeom prst="wedgeRoundRectCallout">
              <a:avLst>
                <a:gd name="adj1" fmla="val 62305"/>
                <a:gd name="adj2" fmla="val 2495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你认识这幅统计图吗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571" name="图片 22547" descr="49"/>
            <p:cNvPicPr/>
            <p:nvPr/>
          </p:nvPicPr>
          <p:blipFill>
            <a:blip r:embed="rId4"/>
            <a:stretch/>
          </p:blipFill>
          <p:spPr>
            <a:xfrm>
              <a:off x="7237080" y="4149720"/>
              <a:ext cx="1428840" cy="179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2" name="Rectangle 2"/>
          <p:cNvSpPr/>
          <p:nvPr/>
        </p:nvSpPr>
        <p:spPr>
          <a:xfrm>
            <a:off x="179280" y="1455840"/>
            <a:ext cx="6131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二）生成统计图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3" name="矩形 22549"/>
          <p:cNvSpPr/>
          <p:nvPr/>
        </p:nvSpPr>
        <p:spPr>
          <a:xfrm>
            <a:off x="2063520" y="34830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4" name="矩形 22550"/>
          <p:cNvSpPr/>
          <p:nvPr/>
        </p:nvSpPr>
        <p:spPr>
          <a:xfrm>
            <a:off x="2279520" y="36990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5" name="矩形 22551"/>
          <p:cNvSpPr/>
          <p:nvPr/>
        </p:nvSpPr>
        <p:spPr>
          <a:xfrm>
            <a:off x="2495160" y="391464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Rectangle 2"/>
          <p:cNvSpPr/>
          <p:nvPr/>
        </p:nvSpPr>
        <p:spPr>
          <a:xfrm>
            <a:off x="179280" y="1455840"/>
            <a:ext cx="6131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三）认识扇形统计图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8" name="TextBox 13"/>
          <p:cNvSpPr/>
          <p:nvPr/>
        </p:nvSpPr>
        <p:spPr>
          <a:xfrm>
            <a:off x="644400" y="5280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）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整个圆、每个小扇形分别表示什么？ 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9" name="TextBox 13"/>
          <p:cNvSpPr/>
          <p:nvPr/>
        </p:nvSpPr>
        <p:spPr>
          <a:xfrm>
            <a:off x="108000" y="5840280"/>
            <a:ext cx="90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答：整个圆表示六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班同学的人数，粉色的扇形表示喜欢足球的人数占全班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人数的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%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；蓝色的扇形表示喜欢跳绳的人数占全班人数的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2.5%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；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……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0" name="TextBox 13"/>
          <p:cNvSpPr/>
          <p:nvPr/>
        </p:nvSpPr>
        <p:spPr>
          <a:xfrm>
            <a:off x="649440" y="5286240"/>
            <a:ext cx="67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喜欢踢毽的人数占总人数的百分之几？乒乓球的呢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1" name="TextBox 13"/>
          <p:cNvSpPr/>
          <p:nvPr/>
        </p:nvSpPr>
        <p:spPr>
          <a:xfrm>
            <a:off x="-419040" y="5845320"/>
            <a:ext cx="78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答：喜欢踢毽的人数占总人数的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5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；喜欢乒乓球的人数占总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人数的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0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2" name="TextBox 13"/>
          <p:cNvSpPr/>
          <p:nvPr/>
        </p:nvSpPr>
        <p:spPr>
          <a:xfrm>
            <a:off x="641520" y="529128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各个扇形的大小与什么有关系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3" name="TextBox 13"/>
          <p:cNvSpPr/>
          <p:nvPr/>
        </p:nvSpPr>
        <p:spPr>
          <a:xfrm>
            <a:off x="-414360" y="581508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答：各个扇形的大小与班中喜欢某项运动的人数占全班人数的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百分之几有关系。 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4" name="TextBox 13"/>
          <p:cNvSpPr/>
          <p:nvPr/>
        </p:nvSpPr>
        <p:spPr>
          <a:xfrm>
            <a:off x="635040" y="528156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用这样的统计图有什么好处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5" name="TextBox 13"/>
          <p:cNvSpPr/>
          <p:nvPr/>
        </p:nvSpPr>
        <p:spPr>
          <a:xfrm>
            <a:off x="-415800" y="5815080"/>
            <a:ext cx="88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答：可以清楚地反映出喜欢每种运动项目的人数占总人数的百分之几。 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86" name="组合 23563"/>
          <p:cNvGrpSpPr/>
          <p:nvPr/>
        </p:nvGrpSpPr>
        <p:grpSpPr>
          <a:xfrm>
            <a:off x="2050920" y="2492280"/>
            <a:ext cx="4032360" cy="2339640"/>
            <a:chOff x="2050920" y="2492280"/>
            <a:chExt cx="4032360" cy="2339640"/>
          </a:xfrm>
        </p:grpSpPr>
        <p:grpSp>
          <p:nvGrpSpPr>
            <p:cNvPr id="1587" name="组合 23564"/>
            <p:cNvGrpSpPr/>
            <p:nvPr/>
          </p:nvGrpSpPr>
          <p:grpSpPr>
            <a:xfrm>
              <a:off x="2700000" y="2852640"/>
              <a:ext cx="2057400" cy="1979280"/>
              <a:chOff x="2700000" y="2852640"/>
              <a:chExt cx="2057400" cy="1979280"/>
            </a:xfrm>
          </p:grpSpPr>
          <p:pic>
            <p:nvPicPr>
              <p:cNvPr id="1588" name="图片 23565" descr="86"/>
              <p:cNvPicPr/>
              <p:nvPr/>
            </p:nvPicPr>
            <p:blipFill>
              <a:blip r:embed="rId1"/>
              <a:stretch/>
            </p:blipFill>
            <p:spPr>
              <a:xfrm>
                <a:off x="2800080" y="2852640"/>
                <a:ext cx="1957320" cy="19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9" name="文本框 23566"/>
              <p:cNvSpPr/>
              <p:nvPr/>
            </p:nvSpPr>
            <p:spPr>
              <a:xfrm>
                <a:off x="3720960" y="3213000"/>
                <a:ext cx="9363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乒乓球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0</a:t>
                </a: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%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90" name="文本框 23567"/>
              <p:cNvSpPr/>
              <p:nvPr/>
            </p:nvSpPr>
            <p:spPr>
              <a:xfrm>
                <a:off x="3669840" y="4143240"/>
                <a:ext cx="936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足球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0</a:t>
                </a: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%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91" name="文本框 23568"/>
              <p:cNvSpPr/>
              <p:nvPr/>
            </p:nvSpPr>
            <p:spPr>
              <a:xfrm>
                <a:off x="2939760" y="3206520"/>
                <a:ext cx="936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其他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2.5</a:t>
                </a: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%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92" name="文本框 23569"/>
              <p:cNvSpPr/>
              <p:nvPr/>
            </p:nvSpPr>
            <p:spPr>
              <a:xfrm>
                <a:off x="2700000" y="3750840"/>
                <a:ext cx="936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踢毽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5</a:t>
                </a: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%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93" name="文本框 23570"/>
              <p:cNvSpPr/>
              <p:nvPr/>
            </p:nvSpPr>
            <p:spPr>
              <a:xfrm>
                <a:off x="3070080" y="4135320"/>
                <a:ext cx="9363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跳绳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2.5</a:t>
                </a: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%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594" name="文本框 23571"/>
            <p:cNvSpPr/>
            <p:nvPr/>
          </p:nvSpPr>
          <p:spPr>
            <a:xfrm>
              <a:off x="2050920" y="2492280"/>
              <a:ext cx="40323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6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六（</a:t>
              </a: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r>
                <a:rPr b="0" i="1" lang="zh-CN" sz="16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）班同学最喜欢的运动项目统计图</a:t>
              </a:r>
              <a:endParaRPr b="0" i="1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95" name="组合 23572"/>
          <p:cNvGrpSpPr/>
          <p:nvPr/>
        </p:nvGrpSpPr>
        <p:grpSpPr>
          <a:xfrm>
            <a:off x="4716360" y="1125360"/>
            <a:ext cx="4044960" cy="1414440"/>
            <a:chOff x="4716360" y="1125360"/>
            <a:chExt cx="4044960" cy="1414440"/>
          </a:xfrm>
        </p:grpSpPr>
        <p:pic>
          <p:nvPicPr>
            <p:cNvPr id="1596" name="Picture 15" descr="男天使"/>
            <p:cNvPicPr/>
            <p:nvPr/>
          </p:nvPicPr>
          <p:blipFill>
            <a:blip r:embed="rId2"/>
            <a:stretch/>
          </p:blipFill>
          <p:spPr>
            <a:xfrm>
              <a:off x="7237440" y="112536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7" name="AutoShape 27"/>
            <p:cNvSpPr/>
            <p:nvPr/>
          </p:nvSpPr>
          <p:spPr>
            <a:xfrm>
              <a:off x="4716360" y="1709640"/>
              <a:ext cx="2448000" cy="568440"/>
            </a:xfrm>
            <a:prstGeom prst="wedgeRoundRectCallout">
              <a:avLst>
                <a:gd name="adj1" fmla="val 58819"/>
                <a:gd name="adj2" fmla="val 4441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楷体_GB2312"/>
                  <a:ea typeface="楷体_GB2312"/>
                </a:rPr>
                <a:t>这叫扇形统计图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Rectangle 2"/>
          <p:cNvSpPr/>
          <p:nvPr/>
        </p:nvSpPr>
        <p:spPr>
          <a:xfrm>
            <a:off x="179280" y="1455840"/>
            <a:ext cx="41767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四）比较辨析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TextBox 13"/>
          <p:cNvSpPr/>
          <p:nvPr/>
        </p:nvSpPr>
        <p:spPr>
          <a:xfrm>
            <a:off x="515880" y="5391000"/>
            <a:ext cx="54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这两幅统计图有什么相同点和不同点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1" name="TextBox 13"/>
          <p:cNvSpPr/>
          <p:nvPr/>
        </p:nvSpPr>
        <p:spPr>
          <a:xfrm>
            <a:off x="507960" y="539280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如果你是老师，拿到了这两幅统计图，会做出什么决定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2" name="TextBox 13"/>
          <p:cNvSpPr/>
          <p:nvPr/>
        </p:nvSpPr>
        <p:spPr>
          <a:xfrm>
            <a:off x="-181080" y="5840280"/>
            <a:ext cx="869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答：这两幅图都可以看出数量的多少，扇形统计图还能清楚地反映出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喜欢每种运动项目的人数占总人数的百分之几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03" name="组合 24582"/>
          <p:cNvGrpSpPr/>
          <p:nvPr/>
        </p:nvGrpSpPr>
        <p:grpSpPr>
          <a:xfrm>
            <a:off x="525600" y="2133720"/>
            <a:ext cx="4278240" cy="2751120"/>
            <a:chOff x="525600" y="2133720"/>
            <a:chExt cx="4278240" cy="2751120"/>
          </a:xfrm>
        </p:grpSpPr>
        <p:grpSp>
          <p:nvGrpSpPr>
            <p:cNvPr id="1604" name="组合 24583"/>
            <p:cNvGrpSpPr/>
            <p:nvPr/>
          </p:nvGrpSpPr>
          <p:grpSpPr>
            <a:xfrm>
              <a:off x="900000" y="2133720"/>
              <a:ext cx="3754440" cy="2445840"/>
              <a:chOff x="900000" y="2133720"/>
              <a:chExt cx="3754440" cy="2445840"/>
            </a:xfrm>
          </p:grpSpPr>
          <p:sp>
            <p:nvSpPr>
              <p:cNvPr id="1605" name="矩形 24584"/>
              <p:cNvSpPr/>
              <p:nvPr/>
            </p:nvSpPr>
            <p:spPr>
              <a:xfrm>
                <a:off x="1484640" y="2133720"/>
                <a:ext cx="2463120" cy="38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六（</a:t>
                </a: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r>
                  <a:rPr b="0" i="1" lang="zh-CN" sz="16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）班同学最喜欢的运动项目统计图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606" name="组合 24585"/>
              <p:cNvGrpSpPr/>
              <p:nvPr/>
            </p:nvGrpSpPr>
            <p:grpSpPr>
              <a:xfrm>
                <a:off x="900000" y="2420640"/>
                <a:ext cx="3754440" cy="2158920"/>
                <a:chOff x="900000" y="2420640"/>
                <a:chExt cx="3754440" cy="2158920"/>
              </a:xfrm>
            </p:grpSpPr>
            <p:sp>
              <p:nvSpPr>
                <p:cNvPr id="1607" name="直接连接符 24586"/>
                <p:cNvSpPr/>
                <p:nvPr/>
              </p:nvSpPr>
              <p:spPr>
                <a:xfrm>
                  <a:off x="909720" y="4578120"/>
                  <a:ext cx="3744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08" name="直接连接符 24587"/>
                <p:cNvSpPr/>
                <p:nvPr/>
              </p:nvSpPr>
              <p:spPr>
                <a:xfrm flipV="1">
                  <a:off x="900000" y="2420640"/>
                  <a:ext cx="0" cy="215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09" name="直接连接符 24588"/>
                <p:cNvSpPr/>
                <p:nvPr/>
              </p:nvSpPr>
              <p:spPr>
                <a:xfrm>
                  <a:off x="909720" y="4295520"/>
                  <a:ext cx="3744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10" name="直接连接符 24589"/>
                <p:cNvSpPr/>
                <p:nvPr/>
              </p:nvSpPr>
              <p:spPr>
                <a:xfrm>
                  <a:off x="905040" y="3992400"/>
                  <a:ext cx="3744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11" name="直接连接符 24590"/>
                <p:cNvSpPr/>
                <p:nvPr/>
              </p:nvSpPr>
              <p:spPr>
                <a:xfrm>
                  <a:off x="900000" y="3703680"/>
                  <a:ext cx="374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12" name="直接连接符 24591"/>
                <p:cNvSpPr/>
                <p:nvPr/>
              </p:nvSpPr>
              <p:spPr>
                <a:xfrm>
                  <a:off x="905040" y="3406680"/>
                  <a:ext cx="3744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13" name="直接连接符 24592"/>
                <p:cNvSpPr/>
                <p:nvPr/>
              </p:nvSpPr>
              <p:spPr>
                <a:xfrm>
                  <a:off x="900000" y="3108240"/>
                  <a:ext cx="374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14" name="直接连接符 24593"/>
                <p:cNvSpPr/>
                <p:nvPr/>
              </p:nvSpPr>
              <p:spPr>
                <a:xfrm>
                  <a:off x="900000" y="2830320"/>
                  <a:ext cx="374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15" name="直接连接符 24594"/>
                <p:cNvSpPr/>
                <p:nvPr/>
              </p:nvSpPr>
              <p:spPr>
                <a:xfrm>
                  <a:off x="905040" y="2552400"/>
                  <a:ext cx="3744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grpSp>
          <p:nvGrpSpPr>
            <p:cNvPr id="1616" name="组合 24595"/>
            <p:cNvGrpSpPr/>
            <p:nvPr/>
          </p:nvGrpSpPr>
          <p:grpSpPr>
            <a:xfrm>
              <a:off x="525600" y="2311560"/>
              <a:ext cx="4278240" cy="2573280"/>
              <a:chOff x="525600" y="2311560"/>
              <a:chExt cx="4278240" cy="2573280"/>
            </a:xfrm>
          </p:grpSpPr>
          <p:pic>
            <p:nvPicPr>
              <p:cNvPr id="1617" name="图片 24596" descr="85"/>
              <p:cNvPicPr/>
              <p:nvPr/>
            </p:nvPicPr>
            <p:blipFill>
              <a:blip r:embed="rId1"/>
              <a:stretch/>
            </p:blipFill>
            <p:spPr>
              <a:xfrm>
                <a:off x="857520" y="2463840"/>
                <a:ext cx="3882960" cy="2157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18" name="组合 24597"/>
              <p:cNvGrpSpPr/>
              <p:nvPr/>
            </p:nvGrpSpPr>
            <p:grpSpPr>
              <a:xfrm>
                <a:off x="525600" y="2311560"/>
                <a:ext cx="4278240" cy="2573280"/>
                <a:chOff x="525600" y="2311560"/>
                <a:chExt cx="4278240" cy="2573280"/>
              </a:xfrm>
            </p:grpSpPr>
            <p:sp>
              <p:nvSpPr>
                <p:cNvPr id="1619" name="文本框 24598"/>
                <p:cNvSpPr/>
                <p:nvPr/>
              </p:nvSpPr>
              <p:spPr>
                <a:xfrm>
                  <a:off x="857520" y="4480200"/>
                  <a:ext cx="107928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16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乒乓球</a:t>
                  </a:r>
                  <a:endPara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20" name="文本框 24599"/>
                <p:cNvSpPr/>
                <p:nvPr/>
              </p:nvSpPr>
              <p:spPr>
                <a:xfrm>
                  <a:off x="1716120" y="4476960"/>
                  <a:ext cx="100836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16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足球</a:t>
                  </a:r>
                  <a:endPara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21" name="文本框 24600"/>
                <p:cNvSpPr/>
                <p:nvPr/>
              </p:nvSpPr>
              <p:spPr>
                <a:xfrm>
                  <a:off x="2498760" y="4489560"/>
                  <a:ext cx="72072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16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跳绳</a:t>
                  </a:r>
                  <a:endPara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22" name="文本框 24601"/>
                <p:cNvSpPr/>
                <p:nvPr/>
              </p:nvSpPr>
              <p:spPr>
                <a:xfrm>
                  <a:off x="3257640" y="4496040"/>
                  <a:ext cx="72576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16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踢毽</a:t>
                  </a:r>
                  <a:endPara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23" name="文本框 24602"/>
                <p:cNvSpPr/>
                <p:nvPr/>
              </p:nvSpPr>
              <p:spPr>
                <a:xfrm>
                  <a:off x="4078440" y="4498920"/>
                  <a:ext cx="72540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16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其他</a:t>
                  </a:r>
                  <a:endPara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1624" name="组合 24603"/>
                <p:cNvGrpSpPr/>
                <p:nvPr/>
              </p:nvGrpSpPr>
              <p:grpSpPr>
                <a:xfrm>
                  <a:off x="525600" y="2311560"/>
                  <a:ext cx="3930840" cy="2440080"/>
                  <a:chOff x="525600" y="2311560"/>
                  <a:chExt cx="3930840" cy="2440080"/>
                </a:xfrm>
              </p:grpSpPr>
              <p:sp>
                <p:nvSpPr>
                  <p:cNvPr id="1625" name="文本框 24604"/>
                  <p:cNvSpPr/>
                  <p:nvPr/>
                </p:nvSpPr>
                <p:spPr>
                  <a:xfrm>
                    <a:off x="650880" y="4365720"/>
                    <a:ext cx="2779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0</a:t>
                    </a:r>
                    <a:endPara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26" name="文本框 24605"/>
                  <p:cNvSpPr/>
                  <p:nvPr/>
                </p:nvSpPr>
                <p:spPr>
                  <a:xfrm>
                    <a:off x="641520" y="4048200"/>
                    <a:ext cx="2779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2</a:t>
                    </a:r>
                    <a:endPara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27" name="文本框 24606"/>
                  <p:cNvSpPr/>
                  <p:nvPr/>
                </p:nvSpPr>
                <p:spPr>
                  <a:xfrm>
                    <a:off x="641520" y="3760920"/>
                    <a:ext cx="2779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4</a:t>
                    </a:r>
                    <a:endPara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28" name="文本框 24607"/>
                  <p:cNvSpPr/>
                  <p:nvPr/>
                </p:nvSpPr>
                <p:spPr>
                  <a:xfrm>
                    <a:off x="641520" y="3478320"/>
                    <a:ext cx="2779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6</a:t>
                    </a:r>
                    <a:endPara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29" name="文本框 24608"/>
                  <p:cNvSpPr/>
                  <p:nvPr/>
                </p:nvSpPr>
                <p:spPr>
                  <a:xfrm>
                    <a:off x="655920" y="3194280"/>
                    <a:ext cx="27756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8</a:t>
                    </a:r>
                    <a:endPara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30" name="文本框 24609"/>
                  <p:cNvSpPr/>
                  <p:nvPr/>
                </p:nvSpPr>
                <p:spPr>
                  <a:xfrm>
                    <a:off x="525600" y="2895840"/>
                    <a:ext cx="43200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0</a:t>
                    </a:r>
                    <a:endPara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31" name="文本框 24610"/>
                  <p:cNvSpPr/>
                  <p:nvPr/>
                </p:nvSpPr>
                <p:spPr>
                  <a:xfrm>
                    <a:off x="525600" y="2608200"/>
                    <a:ext cx="43200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2</a:t>
                    </a:r>
                    <a:endPara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32" name="文本框 24611"/>
                  <p:cNvSpPr/>
                  <p:nvPr/>
                </p:nvSpPr>
                <p:spPr>
                  <a:xfrm>
                    <a:off x="530280" y="2311560"/>
                    <a:ext cx="43200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4</a:t>
                    </a:r>
                    <a:endPara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33" name="文本框 24612"/>
                  <p:cNvSpPr/>
                  <p:nvPr/>
                </p:nvSpPr>
                <p:spPr>
                  <a:xfrm>
                    <a:off x="1063800" y="2498760"/>
                    <a:ext cx="43164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2</a:t>
                    </a:r>
                    <a:endPara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34" name="文本框 24613"/>
                  <p:cNvSpPr/>
                  <p:nvPr/>
                </p:nvSpPr>
                <p:spPr>
                  <a:xfrm>
                    <a:off x="1884600" y="3078360"/>
                    <a:ext cx="2779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8</a:t>
                    </a:r>
                    <a:endPara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35" name="文本框 24614"/>
                  <p:cNvSpPr/>
                  <p:nvPr/>
                </p:nvSpPr>
                <p:spPr>
                  <a:xfrm>
                    <a:off x="2648160" y="3500640"/>
                    <a:ext cx="2779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5</a:t>
                    </a:r>
                    <a:endPara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36" name="文本框 24615"/>
                  <p:cNvSpPr/>
                  <p:nvPr/>
                </p:nvSpPr>
                <p:spPr>
                  <a:xfrm>
                    <a:off x="3430800" y="3357720"/>
                    <a:ext cx="2779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6</a:t>
                    </a:r>
                    <a:endPara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37" name="文本框 24616"/>
                  <p:cNvSpPr/>
                  <p:nvPr/>
                </p:nvSpPr>
                <p:spPr>
                  <a:xfrm>
                    <a:off x="4178520" y="2933640"/>
                    <a:ext cx="2779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9</a:t>
                    </a:r>
                    <a:endPara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638" name="组合 24617"/>
          <p:cNvGrpSpPr/>
          <p:nvPr/>
        </p:nvGrpSpPr>
        <p:grpSpPr>
          <a:xfrm>
            <a:off x="4859280" y="2114640"/>
            <a:ext cx="4032360" cy="2339640"/>
            <a:chOff x="4859280" y="2114640"/>
            <a:chExt cx="4032360" cy="2339640"/>
          </a:xfrm>
        </p:grpSpPr>
        <p:grpSp>
          <p:nvGrpSpPr>
            <p:cNvPr id="1639" name="组合 24618"/>
            <p:cNvGrpSpPr/>
            <p:nvPr/>
          </p:nvGrpSpPr>
          <p:grpSpPr>
            <a:xfrm>
              <a:off x="5508360" y="2475000"/>
              <a:ext cx="2057400" cy="1979280"/>
              <a:chOff x="5508360" y="2475000"/>
              <a:chExt cx="2057400" cy="1979280"/>
            </a:xfrm>
          </p:grpSpPr>
          <p:pic>
            <p:nvPicPr>
              <p:cNvPr id="1640" name="图片 24619" descr="86"/>
              <p:cNvPicPr/>
              <p:nvPr/>
            </p:nvPicPr>
            <p:blipFill>
              <a:blip r:embed="rId2"/>
              <a:stretch/>
            </p:blipFill>
            <p:spPr>
              <a:xfrm>
                <a:off x="5608440" y="2475000"/>
                <a:ext cx="1957320" cy="19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1" name="文本框 24620"/>
              <p:cNvSpPr/>
              <p:nvPr/>
            </p:nvSpPr>
            <p:spPr>
              <a:xfrm>
                <a:off x="6529320" y="2835360"/>
                <a:ext cx="9363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乒乓球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0</a:t>
                </a: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%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42" name="文本框 24621"/>
              <p:cNvSpPr/>
              <p:nvPr/>
            </p:nvSpPr>
            <p:spPr>
              <a:xfrm>
                <a:off x="6478200" y="3765600"/>
                <a:ext cx="936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足球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0</a:t>
                </a: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%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43" name="文本框 24622"/>
              <p:cNvSpPr/>
              <p:nvPr/>
            </p:nvSpPr>
            <p:spPr>
              <a:xfrm>
                <a:off x="5748120" y="2828880"/>
                <a:ext cx="936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其他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2.5</a:t>
                </a: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%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44" name="文本框 24623"/>
              <p:cNvSpPr/>
              <p:nvPr/>
            </p:nvSpPr>
            <p:spPr>
              <a:xfrm>
                <a:off x="5508360" y="3373200"/>
                <a:ext cx="936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踢毽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5</a:t>
                </a: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%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45" name="文本框 24624"/>
              <p:cNvSpPr/>
              <p:nvPr/>
            </p:nvSpPr>
            <p:spPr>
              <a:xfrm>
                <a:off x="5878440" y="3757680"/>
                <a:ext cx="9363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跳绳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2.5</a:t>
                </a:r>
                <a:r>
                  <a:rPr b="0" i="1" lang="en-US" sz="16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Adobe Gothic Std B"/>
                  </a:rPr>
                  <a:t>%</a:t>
                </a:r>
                <a:endParaRPr b="0" i="1" lang="en-US" sz="1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46" name="文本框 24625"/>
            <p:cNvSpPr/>
            <p:nvPr/>
          </p:nvSpPr>
          <p:spPr>
            <a:xfrm>
              <a:off x="4859280" y="2114640"/>
              <a:ext cx="40323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6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六（</a:t>
              </a: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r>
                <a:rPr b="0" i="1" lang="zh-CN" sz="16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）班同学最喜欢的运动项目统计图</a:t>
              </a:r>
              <a:endParaRPr b="0" i="1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2"/>
          <p:cNvSpPr/>
          <p:nvPr/>
        </p:nvSpPr>
        <p:spPr>
          <a:xfrm>
            <a:off x="179280" y="1455840"/>
            <a:ext cx="6131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五）生活中的扇形统计图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48" name="组合 25602"/>
          <p:cNvGrpSpPr/>
          <p:nvPr/>
        </p:nvGrpSpPr>
        <p:grpSpPr>
          <a:xfrm>
            <a:off x="2340000" y="2492280"/>
            <a:ext cx="3480840" cy="3238560"/>
            <a:chOff x="2340000" y="2492280"/>
            <a:chExt cx="3480840" cy="3238560"/>
          </a:xfrm>
        </p:grpSpPr>
        <p:pic>
          <p:nvPicPr>
            <p:cNvPr id="1649" name="图片 25603" descr="87"/>
            <p:cNvPicPr/>
            <p:nvPr/>
          </p:nvPicPr>
          <p:blipFill>
            <a:blip r:embed="rId1"/>
            <a:stretch/>
          </p:blipFill>
          <p:spPr>
            <a:xfrm>
              <a:off x="2340000" y="2492280"/>
              <a:ext cx="3396960" cy="323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0" name="文本框 25604"/>
            <p:cNvSpPr/>
            <p:nvPr/>
          </p:nvSpPr>
          <p:spPr>
            <a:xfrm>
              <a:off x="3327120" y="4237200"/>
              <a:ext cx="16552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北美洲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6.1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%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51" name="文本框 25605"/>
            <p:cNvSpPr/>
            <p:nvPr/>
          </p:nvSpPr>
          <p:spPr>
            <a:xfrm>
              <a:off x="2653920" y="3916440"/>
              <a:ext cx="127152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南美洲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2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%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52" name="文本框 25606"/>
            <p:cNvSpPr/>
            <p:nvPr/>
          </p:nvSpPr>
          <p:spPr>
            <a:xfrm>
              <a:off x="4165200" y="3930840"/>
              <a:ext cx="16556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非洲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0.2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%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53" name="文本框 25607"/>
            <p:cNvSpPr/>
            <p:nvPr/>
          </p:nvSpPr>
          <p:spPr>
            <a:xfrm>
              <a:off x="3949560" y="3397320"/>
              <a:ext cx="16552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亚洲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9.3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%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54" name="文本框 25608"/>
            <p:cNvSpPr/>
            <p:nvPr/>
          </p:nvSpPr>
          <p:spPr>
            <a:xfrm>
              <a:off x="2485800" y="3594240"/>
              <a:ext cx="127116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南极洲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9.3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%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55" name="文本框 25609"/>
            <p:cNvSpPr/>
            <p:nvPr/>
          </p:nvSpPr>
          <p:spPr>
            <a:xfrm>
              <a:off x="2538360" y="3238560"/>
              <a:ext cx="127116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欧洲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.1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%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56" name="文本框 25610"/>
            <p:cNvSpPr/>
            <p:nvPr/>
          </p:nvSpPr>
          <p:spPr>
            <a:xfrm>
              <a:off x="2585880" y="2916360"/>
              <a:ext cx="127116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大洋洲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6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%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57" name="文本框 25611"/>
            <p:cNvSpPr/>
            <p:nvPr/>
          </p:nvSpPr>
          <p:spPr>
            <a:xfrm>
              <a:off x="2490480" y="5100840"/>
              <a:ext cx="33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世界陆地面积分布统计图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58" name="组合 25612"/>
          <p:cNvGrpSpPr/>
          <p:nvPr/>
        </p:nvGrpSpPr>
        <p:grpSpPr>
          <a:xfrm>
            <a:off x="1747800" y="2589120"/>
            <a:ext cx="5081400" cy="2985120"/>
            <a:chOff x="1747800" y="2589120"/>
            <a:chExt cx="5081400" cy="2985120"/>
          </a:xfrm>
        </p:grpSpPr>
        <p:grpSp>
          <p:nvGrpSpPr>
            <p:cNvPr id="1659" name="组合 25613"/>
            <p:cNvGrpSpPr/>
            <p:nvPr/>
          </p:nvGrpSpPr>
          <p:grpSpPr>
            <a:xfrm>
              <a:off x="1747800" y="3232080"/>
              <a:ext cx="5081400" cy="2342160"/>
              <a:chOff x="1747800" y="3232080"/>
              <a:chExt cx="5081400" cy="2342160"/>
            </a:xfrm>
          </p:grpSpPr>
          <p:pic>
            <p:nvPicPr>
              <p:cNvPr id="1660" name="图片 25614" descr="88"/>
              <p:cNvPicPr/>
              <p:nvPr/>
            </p:nvPicPr>
            <p:blipFill>
              <a:blip r:embed="rId2"/>
              <a:stretch/>
            </p:blipFill>
            <p:spPr>
              <a:xfrm>
                <a:off x="2236680" y="3412800"/>
                <a:ext cx="3295800" cy="2028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61" name="组合 25615"/>
              <p:cNvGrpSpPr/>
              <p:nvPr/>
            </p:nvGrpSpPr>
            <p:grpSpPr>
              <a:xfrm>
                <a:off x="1747800" y="3232080"/>
                <a:ext cx="5081400" cy="2342160"/>
                <a:chOff x="1747800" y="3232080"/>
                <a:chExt cx="5081400" cy="2342160"/>
              </a:xfrm>
            </p:grpSpPr>
            <p:sp>
              <p:nvSpPr>
                <p:cNvPr id="1662" name="文本框 25616"/>
                <p:cNvSpPr/>
                <p:nvPr/>
              </p:nvSpPr>
              <p:spPr>
                <a:xfrm>
                  <a:off x="3697200" y="5041440"/>
                  <a:ext cx="1511280" cy="53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4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非洲</a:t>
                  </a: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45.7</a:t>
                  </a: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%</a:t>
                  </a: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63" name="文本框 25617"/>
                <p:cNvSpPr/>
                <p:nvPr/>
              </p:nvSpPr>
              <p:spPr>
                <a:xfrm>
                  <a:off x="4668840" y="3536640"/>
                  <a:ext cx="2160360" cy="53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4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亚洲</a:t>
                  </a: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2.8</a:t>
                  </a: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%</a:t>
                  </a: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64" name="文本框 25618"/>
                <p:cNvSpPr/>
                <p:nvPr/>
              </p:nvSpPr>
              <p:spPr>
                <a:xfrm>
                  <a:off x="3029040" y="3232080"/>
                  <a:ext cx="21603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4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大洋洲</a:t>
                  </a: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4.0</a:t>
                  </a: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%</a:t>
                  </a: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65" name="文本框 25619"/>
                <p:cNvSpPr/>
                <p:nvPr/>
              </p:nvSpPr>
              <p:spPr>
                <a:xfrm>
                  <a:off x="3533760" y="3346200"/>
                  <a:ext cx="2160720" cy="53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4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其他</a:t>
                  </a: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4.5</a:t>
                  </a: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%</a:t>
                  </a: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66" name="文本框 25620"/>
                <p:cNvSpPr/>
                <p:nvPr/>
              </p:nvSpPr>
              <p:spPr>
                <a:xfrm>
                  <a:off x="2049480" y="3365280"/>
                  <a:ext cx="21603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4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拉丁美洲和</a:t>
                  </a: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4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加勒比</a:t>
                  </a: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2.7</a:t>
                  </a: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%</a:t>
                  </a: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67" name="文本框 25621"/>
                <p:cNvSpPr/>
                <p:nvPr/>
              </p:nvSpPr>
              <p:spPr>
                <a:xfrm>
                  <a:off x="1747800" y="4190760"/>
                  <a:ext cx="10080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4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欧洲</a:t>
                  </a: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0.3</a:t>
                  </a: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%</a:t>
                  </a: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sp>
          <p:nvSpPr>
            <p:cNvPr id="1668" name="矩形 25622"/>
            <p:cNvSpPr/>
            <p:nvPr/>
          </p:nvSpPr>
          <p:spPr>
            <a:xfrm>
              <a:off x="2471760" y="2589120"/>
              <a:ext cx="278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009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年中国对外援助资金地区分布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69" name="组合 25623"/>
          <p:cNvGrpSpPr/>
          <p:nvPr/>
        </p:nvGrpSpPr>
        <p:grpSpPr>
          <a:xfrm>
            <a:off x="2683440" y="2565360"/>
            <a:ext cx="2523240" cy="2474640"/>
            <a:chOff x="2683440" y="2565360"/>
            <a:chExt cx="2523240" cy="2474640"/>
          </a:xfrm>
        </p:grpSpPr>
        <p:grpSp>
          <p:nvGrpSpPr>
            <p:cNvPr id="1670" name="组合 25624"/>
            <p:cNvGrpSpPr/>
            <p:nvPr/>
          </p:nvGrpSpPr>
          <p:grpSpPr>
            <a:xfrm>
              <a:off x="3144600" y="3060720"/>
              <a:ext cx="2062080" cy="1979280"/>
              <a:chOff x="3144600" y="3060720"/>
              <a:chExt cx="2062080" cy="1979280"/>
            </a:xfrm>
          </p:grpSpPr>
          <p:pic>
            <p:nvPicPr>
              <p:cNvPr id="1671" name="图片 25625" descr="101"/>
              <p:cNvPicPr/>
              <p:nvPr/>
            </p:nvPicPr>
            <p:blipFill>
              <a:blip r:embed="rId3"/>
              <a:stretch/>
            </p:blipFill>
            <p:spPr>
              <a:xfrm>
                <a:off x="3144600" y="3060720"/>
                <a:ext cx="2062080" cy="19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2" name="矩形 25626"/>
              <p:cNvSpPr/>
              <p:nvPr/>
            </p:nvSpPr>
            <p:spPr>
              <a:xfrm>
                <a:off x="4368600" y="3563640"/>
                <a:ext cx="698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幼龄林</a:t>
                </a:r>
                <a:endParaRPr b="0" i="1" lang="en-US" sz="1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3.82%</a:t>
                </a:r>
                <a:endParaRPr b="0" i="1" lang="en-US" sz="1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73" name="矩形 25627"/>
              <p:cNvSpPr/>
              <p:nvPr/>
            </p:nvSpPr>
            <p:spPr>
              <a:xfrm>
                <a:off x="3792240" y="4356000"/>
                <a:ext cx="698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中龄林</a:t>
                </a:r>
                <a:endParaRPr b="0" i="1" lang="en-US" sz="1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3.43%</a:t>
                </a:r>
                <a:endParaRPr b="0" i="1" lang="en-US" sz="1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74" name="矩形 25628"/>
              <p:cNvSpPr/>
              <p:nvPr/>
            </p:nvSpPr>
            <p:spPr>
              <a:xfrm>
                <a:off x="3198600" y="3789360"/>
                <a:ext cx="698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近龄林</a:t>
                </a:r>
                <a:endParaRPr b="0" i="1" lang="en-US" sz="1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4.82%</a:t>
                </a:r>
                <a:endParaRPr b="0" i="1" lang="en-US" sz="1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75" name="矩形 25629"/>
              <p:cNvSpPr/>
              <p:nvPr/>
            </p:nvSpPr>
            <p:spPr>
              <a:xfrm>
                <a:off x="3331800" y="3314520"/>
                <a:ext cx="698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成龄林</a:t>
                </a:r>
                <a:endParaRPr b="0" i="1" lang="en-US" sz="1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2.03%</a:t>
                </a:r>
                <a:endParaRPr b="0" i="1" lang="en-US" sz="1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76" name="矩形 25630"/>
              <p:cNvSpPr/>
              <p:nvPr/>
            </p:nvSpPr>
            <p:spPr>
              <a:xfrm>
                <a:off x="3695400" y="3089160"/>
                <a:ext cx="698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过龄林</a:t>
                </a:r>
                <a:endParaRPr b="0" i="1" lang="en-US" sz="1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.9%</a:t>
                </a:r>
                <a:endParaRPr b="0" i="1" lang="en-US" sz="1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77" name="矩形 25631"/>
            <p:cNvSpPr/>
            <p:nvPr/>
          </p:nvSpPr>
          <p:spPr>
            <a:xfrm>
              <a:off x="2683440" y="2565360"/>
              <a:ext cx="24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我国乔木林各龄组的面积构成情况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678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探究新知</a:t>
            </a:r>
            <a:endParaRPr b="0" i="1" lang="en-US" sz="4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三、运用知识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TextBox 3"/>
          <p:cNvSpPr/>
          <p:nvPr/>
        </p:nvSpPr>
        <p:spPr>
          <a:xfrm>
            <a:off x="611280" y="1579680"/>
            <a:ext cx="75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牛奶里含有丰富的营养成分，各种营养成分所占百分比如下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81" name="TextBox 3"/>
          <p:cNvSpPr/>
          <p:nvPr/>
        </p:nvSpPr>
        <p:spPr>
          <a:xfrm>
            <a:off x="611280" y="5013360"/>
            <a:ext cx="35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每天喝一袋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50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g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的牛奶，能补充每种营养成分各多少克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82" name="TextBox 3"/>
          <p:cNvSpPr/>
          <p:nvPr/>
        </p:nvSpPr>
        <p:spPr>
          <a:xfrm>
            <a:off x="5154480" y="2260440"/>
            <a:ext cx="417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水分：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5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×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87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17.5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g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83" name="TextBox 3"/>
          <p:cNvSpPr/>
          <p:nvPr/>
        </p:nvSpPr>
        <p:spPr>
          <a:xfrm>
            <a:off x="5154480" y="2878200"/>
            <a:ext cx="39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蛋白质：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5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×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3.3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8.25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g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84" name="TextBox 3"/>
          <p:cNvSpPr/>
          <p:nvPr/>
        </p:nvSpPr>
        <p:spPr>
          <a:xfrm>
            <a:off x="5154480" y="3556080"/>
            <a:ext cx="39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脂肪：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5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×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0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g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85" name="TextBox 3"/>
          <p:cNvSpPr/>
          <p:nvPr/>
        </p:nvSpPr>
        <p:spPr>
          <a:xfrm>
            <a:off x="5154480" y="4233960"/>
            <a:ext cx="39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乳糖：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5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×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5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2.5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g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86" name="TextBox 3"/>
          <p:cNvSpPr/>
          <p:nvPr/>
        </p:nvSpPr>
        <p:spPr>
          <a:xfrm>
            <a:off x="5156280" y="4911840"/>
            <a:ext cx="39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其他：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5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×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0.7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.75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g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687" name="图片 26633" descr="89"/>
          <p:cNvPicPr/>
          <p:nvPr/>
        </p:nvPicPr>
        <p:blipFill>
          <a:blip r:embed="rId1"/>
          <a:stretch/>
        </p:blipFill>
        <p:spPr>
          <a:xfrm>
            <a:off x="684360" y="2421000"/>
            <a:ext cx="4087800" cy="215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dc:language>en-US</dc:language>
  <cp:lastModifiedBy>万润仪器贸易公司</cp:lastModifiedBy>
  <dcterms:modified xsi:type="dcterms:W3CDTF">2020-08-21T09:41:45Z</dcterms:modified>
  <cp:revision>30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